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17800"/>
            <a:ext cx="91440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orm oder Rückschrit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052640"/>
            <a:ext cx="77040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e Novellierung 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ächsischen Hochschulgeset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form oder Rückschrit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6597720"/>
            <a:ext cx="5473800" cy="21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lau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28840"/>
            <a:ext cx="79437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aktuelle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ktu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plante Gremienstruktu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plante Gremienstruktu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3933720"/>
            <a:ext cx="72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gen und offene Disk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773360"/>
            <a:ext cx="8820360" cy="4248000"/>
            <a:chOff x="179280" y="1773360"/>
            <a:chExt cx="8820360" cy="4248000"/>
          </a:xfrm>
        </p:grpSpPr>
        <p:sp>
          <p:nvSpPr>
            <p:cNvPr id="49" name=""/>
            <p:cNvSpPr/>
            <p:nvPr/>
          </p:nvSpPr>
          <p:spPr>
            <a:xfrm>
              <a:off x="179280" y="1773360"/>
              <a:ext cx="8820360" cy="4248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6000" y="1773360"/>
              <a:ext cx="867708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Hochsch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440000" y="2205000"/>
            <a:ext cx="2449440" cy="1351080"/>
            <a:chOff x="1440000" y="2205000"/>
            <a:chExt cx="2449440" cy="1351080"/>
          </a:xfrm>
        </p:grpSpPr>
        <p:sp>
          <p:nvSpPr>
            <p:cNvPr id="52" name=""/>
            <p:cNvSpPr/>
            <p:nvPr/>
          </p:nvSpPr>
          <p:spPr>
            <a:xfrm>
              <a:off x="1440000" y="2205000"/>
              <a:ext cx="2449440" cy="135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1440" y="220824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Rekto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aktuelle Mod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47640" y="879480"/>
            <a:ext cx="6048720" cy="792000"/>
            <a:chOff x="1547640" y="879480"/>
            <a:chExt cx="6048720" cy="792000"/>
          </a:xfrm>
        </p:grpSpPr>
        <p:sp>
          <p:nvSpPr>
            <p:cNvPr id="58" name=""/>
            <p:cNvSpPr/>
            <p:nvPr/>
          </p:nvSpPr>
          <p:spPr>
            <a:xfrm>
              <a:off x="1547640" y="879480"/>
              <a:ext cx="6048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7640" y="998640"/>
              <a:ext cx="60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0120" y="3643200"/>
            <a:ext cx="7597440" cy="1481400"/>
            <a:chOff x="870120" y="3643200"/>
            <a:chExt cx="7597440" cy="1481400"/>
          </a:xfrm>
        </p:grpSpPr>
        <p:sp>
          <p:nvSpPr>
            <p:cNvPr id="61" name=""/>
            <p:cNvSpPr/>
            <p:nvPr/>
          </p:nvSpPr>
          <p:spPr>
            <a:xfrm>
              <a:off x="870120" y="3643200"/>
              <a:ext cx="7597440" cy="14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35480" y="36561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434960" y="2201760"/>
            <a:ext cx="3552480" cy="1351080"/>
            <a:chOff x="1434960" y="2201760"/>
            <a:chExt cx="3552480" cy="1351080"/>
          </a:xfrm>
        </p:grpSpPr>
        <p:sp>
          <p:nvSpPr>
            <p:cNvPr id="64" name=""/>
            <p:cNvSpPr/>
            <p:nvPr/>
          </p:nvSpPr>
          <p:spPr>
            <a:xfrm>
              <a:off x="1434960" y="2201760"/>
              <a:ext cx="3552480" cy="135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37480" y="2205000"/>
              <a:ext cx="354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Rekto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56080" y="2205000"/>
            <a:ext cx="2449440" cy="1144800"/>
            <a:chOff x="5356080" y="2205000"/>
            <a:chExt cx="2449440" cy="1144800"/>
          </a:xfrm>
        </p:grpSpPr>
        <p:sp>
          <p:nvSpPr>
            <p:cNvPr id="67" name=""/>
            <p:cNvSpPr/>
            <p:nvPr/>
          </p:nvSpPr>
          <p:spPr>
            <a:xfrm>
              <a:off x="5356080" y="2205000"/>
              <a:ext cx="2449440" cy="114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57520" y="220500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urator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1440" y="5254560"/>
            <a:ext cx="8207280" cy="687600"/>
            <a:chOff x="541440" y="5254560"/>
            <a:chExt cx="8207280" cy="687600"/>
          </a:xfrm>
        </p:grpSpPr>
        <p:sp>
          <p:nvSpPr>
            <p:cNvPr id="70" name=""/>
            <p:cNvSpPr/>
            <p:nvPr/>
          </p:nvSpPr>
          <p:spPr>
            <a:xfrm>
              <a:off x="541440" y="5254560"/>
              <a:ext cx="8207280" cy="6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6120" y="5256360"/>
              <a:ext cx="820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onz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356080" y="2536920"/>
            <a:ext cx="24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ichtigen Beschlü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6120" y="2536920"/>
            <a:ext cx="24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Geschäftsführ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42880" y="5415120"/>
            <a:ext cx="6829560" cy="521280"/>
            <a:chOff x="1442880" y="5415120"/>
            <a:chExt cx="6829560" cy="521280"/>
          </a:xfrm>
        </p:grpSpPr>
        <p:sp>
          <p:nvSpPr>
            <p:cNvPr id="75" name=""/>
            <p:cNvSpPr/>
            <p:nvPr/>
          </p:nvSpPr>
          <p:spPr>
            <a:xfrm>
              <a:off x="1442880" y="5415120"/>
              <a:ext cx="18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ahl des Rek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57400" y="5629320"/>
              <a:ext cx="372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rörterung der Rechenschaftsberich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6520" y="5429160"/>
              <a:ext cx="308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eschluss der Grundordn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42960" y="4043520"/>
            <a:ext cx="7157880" cy="735480"/>
            <a:chOff x="642960" y="4043520"/>
            <a:chExt cx="7157880" cy="735480"/>
          </a:xfrm>
        </p:grpSpPr>
        <p:sp>
          <p:nvSpPr>
            <p:cNvPr id="79" name=""/>
            <p:cNvSpPr/>
            <p:nvPr/>
          </p:nvSpPr>
          <p:spPr>
            <a:xfrm>
              <a:off x="642960" y="4471920"/>
              <a:ext cx="51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inrichtung und Aufhebung von Studiengä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7360" y="4257720"/>
              <a:ext cx="511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eschluss der Studien- und Prüfungsordnu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7160" y="4043520"/>
              <a:ext cx="694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14680" y="1400040"/>
            <a:ext cx="4357440" cy="307080"/>
            <a:chOff x="1714680" y="1400040"/>
            <a:chExt cx="4357440" cy="307080"/>
          </a:xfrm>
        </p:grpSpPr>
        <p:grpSp>
          <p:nvGrpSpPr>
            <p:cNvPr id="83" name=""/>
            <p:cNvGrpSpPr/>
            <p:nvPr/>
          </p:nvGrpSpPr>
          <p:grpSpPr>
            <a:xfrm>
              <a:off x="1714680" y="1400040"/>
              <a:ext cx="2342880" cy="307080"/>
              <a:chOff x="1714680" y="1400040"/>
              <a:chExt cx="234288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1714680" y="1400040"/>
                <a:ext cx="14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erufung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71720" y="1400040"/>
                <a:ext cx="1185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ufsich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886200" y="1400040"/>
              <a:ext cx="218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Zielvereinbaru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829480" y="140004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. v.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8348E-006 L -0.29427 0.22438 E">
                                      <p:cBhvr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aktuelle Mod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47640" y="879480"/>
            <a:ext cx="6048720" cy="792000"/>
            <a:chOff x="1547640" y="879480"/>
            <a:chExt cx="6048720" cy="792000"/>
          </a:xfrm>
        </p:grpSpPr>
        <p:sp>
          <p:nvSpPr>
            <p:cNvPr id="92" name=""/>
            <p:cNvSpPr/>
            <p:nvPr/>
          </p:nvSpPr>
          <p:spPr>
            <a:xfrm>
              <a:off x="1547640" y="879480"/>
              <a:ext cx="6048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7640" y="998640"/>
              <a:ext cx="60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79280" y="1773360"/>
            <a:ext cx="8820360" cy="4248000"/>
            <a:chOff x="179280" y="1773360"/>
            <a:chExt cx="8820360" cy="4248000"/>
          </a:xfrm>
        </p:grpSpPr>
        <p:sp>
          <p:nvSpPr>
            <p:cNvPr id="95" name=""/>
            <p:cNvSpPr/>
            <p:nvPr/>
          </p:nvSpPr>
          <p:spPr>
            <a:xfrm>
              <a:off x="179280" y="1773360"/>
              <a:ext cx="8820360" cy="4248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00" y="1773360"/>
              <a:ext cx="867708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Hochsch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70120" y="3635280"/>
            <a:ext cx="7591320" cy="1488960"/>
            <a:chOff x="870120" y="3635280"/>
            <a:chExt cx="7591320" cy="1488960"/>
          </a:xfrm>
        </p:grpSpPr>
        <p:sp>
          <p:nvSpPr>
            <p:cNvPr id="98" name=""/>
            <p:cNvSpPr/>
            <p:nvPr/>
          </p:nvSpPr>
          <p:spPr>
            <a:xfrm>
              <a:off x="870120" y="3635280"/>
              <a:ext cx="7591320" cy="148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33320" y="3648240"/>
              <a:ext cx="24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56080" y="2205000"/>
            <a:ext cx="2449440" cy="1144800"/>
            <a:chOff x="5356080" y="2205000"/>
            <a:chExt cx="2449440" cy="1144800"/>
          </a:xfrm>
        </p:grpSpPr>
        <p:sp>
          <p:nvSpPr>
            <p:cNvPr id="101" name=""/>
            <p:cNvSpPr/>
            <p:nvPr/>
          </p:nvSpPr>
          <p:spPr>
            <a:xfrm>
              <a:off x="5356080" y="2205000"/>
              <a:ext cx="2449440" cy="114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57520" y="220500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urator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40000" y="2205000"/>
            <a:ext cx="2449440" cy="1351080"/>
            <a:chOff x="1440000" y="2205000"/>
            <a:chExt cx="2449440" cy="1351080"/>
          </a:xfrm>
        </p:grpSpPr>
        <p:sp>
          <p:nvSpPr>
            <p:cNvPr id="104" name=""/>
            <p:cNvSpPr/>
            <p:nvPr/>
          </p:nvSpPr>
          <p:spPr>
            <a:xfrm>
              <a:off x="1440000" y="2205000"/>
              <a:ext cx="2449440" cy="135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1440" y="220824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Rekto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440" y="5254560"/>
            <a:ext cx="8207280" cy="687600"/>
            <a:chOff x="541440" y="5254560"/>
            <a:chExt cx="8207280" cy="687600"/>
          </a:xfrm>
        </p:grpSpPr>
        <p:sp>
          <p:nvSpPr>
            <p:cNvPr id="107" name=""/>
            <p:cNvSpPr/>
            <p:nvPr/>
          </p:nvSpPr>
          <p:spPr>
            <a:xfrm>
              <a:off x="541440" y="5254560"/>
              <a:ext cx="8207280" cy="6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6120" y="5256360"/>
              <a:ext cx="820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Konz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56080" y="2536920"/>
            <a:ext cx="24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ichtigen Beschlü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6120" y="2536920"/>
            <a:ext cx="24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Geschäftsführ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-12600"/>
            <a:ext cx="9131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geplante Modell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2880" y="541512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ahl des Rek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7400" y="5629320"/>
            <a:ext cx="37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örterung der Rechenschaftsberi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6520" y="5429160"/>
            <a:ext cx="30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Grundord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42960" y="4043520"/>
            <a:ext cx="7157880" cy="735480"/>
            <a:chOff x="642960" y="4043520"/>
            <a:chExt cx="7157880" cy="735480"/>
          </a:xfrm>
        </p:grpSpPr>
        <p:sp>
          <p:nvSpPr>
            <p:cNvPr id="116" name=""/>
            <p:cNvSpPr/>
            <p:nvPr/>
          </p:nvSpPr>
          <p:spPr>
            <a:xfrm>
              <a:off x="642960" y="4471920"/>
              <a:ext cx="51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inrichtung und Aufhebung von Studiengä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7360" y="4257720"/>
              <a:ext cx="511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eschluss der Studien- und Prüfungsordnu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7160" y="4043520"/>
              <a:ext cx="694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14680" y="1400040"/>
            <a:ext cx="5881680" cy="307080"/>
            <a:chOff x="1714680" y="1400040"/>
            <a:chExt cx="5881680" cy="307080"/>
          </a:xfrm>
        </p:grpSpPr>
        <p:sp>
          <p:nvSpPr>
            <p:cNvPr id="120" name=""/>
            <p:cNvSpPr/>
            <p:nvPr/>
          </p:nvSpPr>
          <p:spPr>
            <a:xfrm>
              <a:off x="1714680" y="1400040"/>
              <a:ext cx="14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erufu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1720" y="1400040"/>
              <a:ext cx="11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ufsic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1400040"/>
              <a:ext cx="218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Zielvereinbarung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29480" y="1400040"/>
              <a:ext cx="17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Gen. v. SO/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4.44444E-006 L -0.15781 0.08958 E">
                                      <p:cBhvr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13282 0.05833 E">
                                      <p:cBhvr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01875 0.0875 E">
                                      <p:cBhvr>
                                        <p:cTn id="1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3.7037E-007 L -2.77778E-007 0.11042 E">
                                      <p:cBhvr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4.44444E-006 L -1.94444E-006 0.11041 E">
                                      <p:cBhvr>
                                        <p:cTn id="1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79280" y="1773360"/>
            <a:ext cx="8820360" cy="4248000"/>
            <a:chOff x="179280" y="1773360"/>
            <a:chExt cx="8820360" cy="4248000"/>
          </a:xfrm>
        </p:grpSpPr>
        <p:sp>
          <p:nvSpPr>
            <p:cNvPr id="125" name=""/>
            <p:cNvSpPr/>
            <p:nvPr/>
          </p:nvSpPr>
          <p:spPr>
            <a:xfrm>
              <a:off x="179280" y="1773360"/>
              <a:ext cx="8820360" cy="4248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6000" y="1773360"/>
              <a:ext cx="867708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Hochsch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57160" y="4387680"/>
            <a:ext cx="7597800" cy="14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2205000"/>
            <a:ext cx="4257720" cy="200988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6606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47640" y="879480"/>
            <a:ext cx="6048720" cy="792000"/>
            <a:chOff x="1547640" y="879480"/>
            <a:chExt cx="6048720" cy="792000"/>
          </a:xfrm>
        </p:grpSpPr>
        <p:sp>
          <p:nvSpPr>
            <p:cNvPr id="132" name=""/>
            <p:cNvSpPr/>
            <p:nvPr/>
          </p:nvSpPr>
          <p:spPr>
            <a:xfrm>
              <a:off x="1547640" y="879480"/>
              <a:ext cx="6048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998640"/>
              <a:ext cx="60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284800" y="2208240"/>
            <a:ext cx="3146400" cy="200664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0000" y="2205000"/>
            <a:ext cx="2449440" cy="135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1440" y="22082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kto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6120" y="2536920"/>
            <a:ext cx="24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Geschäftsführ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12600"/>
            <a:ext cx="9131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geplante Modell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6080" y="2205000"/>
            <a:ext cx="244980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57880" y="220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urato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56080" y="2536920"/>
            <a:ext cx="24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ichtigen Beschlü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01668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ahl des Rek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440" y="6022800"/>
            <a:ext cx="37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örterung der Rechenschaftsberi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59320" y="6031080"/>
            <a:ext cx="30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Grundord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8480" y="43862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6480" y="5216400"/>
            <a:ext cx="510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inrichtung und Aufhebung von Studiengä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" y="5002200"/>
            <a:ext cx="51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Studien- und Prüfungsord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4560" y="4788000"/>
            <a:ext cx="69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chschulordnungen, fakultätsübergreifende Angelegenheiten der Leh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2040" y="22082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140004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ruf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71720" y="140004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fs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400040"/>
            <a:ext cx="21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elvereinba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29480" y="140004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. v.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1840" y="2543040"/>
            <a:ext cx="30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Geschäftsfüh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76228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6480" y="3186000"/>
            <a:ext cx="25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 von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3000" y="362124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inrichtung und Aufhebung von Stu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-0.09202 0.22801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-0.54532 0.26042 E">
                                      <p:cBhvr>
                                        <p:cTn id="15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49792 -0.38218 E">
                                      <p:cBhvr>
                                        <p:cTn id="16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83904E-006 L -0.00313 -0.23127 E">
                                      <p:cBhvr>
                                        <p:cTn id="17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0287E-006 L 0.10105 -0.14731 E">
                                      <p:cBhvr>
                                        <p:cTn id="1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1080" y="1774800"/>
            <a:ext cx="8820000" cy="42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8960" y="2208240"/>
            <a:ext cx="4249440" cy="254628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geplante Modell 200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17440" y="1774800"/>
            <a:ext cx="86774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8960" y="4389480"/>
            <a:ext cx="7597800" cy="148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8960" y="2206800"/>
            <a:ext cx="4257720" cy="200952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49440" y="880920"/>
            <a:ext cx="6048360" cy="792000"/>
            <a:chOff x="1549440" y="880920"/>
            <a:chExt cx="6048360" cy="792000"/>
          </a:xfrm>
        </p:grpSpPr>
        <p:sp>
          <p:nvSpPr>
            <p:cNvPr id="167" name=""/>
            <p:cNvSpPr/>
            <p:nvPr/>
          </p:nvSpPr>
          <p:spPr>
            <a:xfrm>
              <a:off x="1549440" y="880920"/>
              <a:ext cx="6048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9440" y="100008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286240" y="2209680"/>
            <a:ext cx="3146400" cy="200664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kto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57880" y="2538360"/>
            <a:ext cx="243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ichtigen Beschlü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39880" y="6039000"/>
            <a:ext cx="37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örterung der Rechenschaftsberi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0280" y="3402000"/>
            <a:ext cx="30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Grundord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46000" y="4387680"/>
            <a:ext cx="7608960" cy="1028880"/>
            <a:chOff x="846000" y="4387680"/>
            <a:chExt cx="7608960" cy="1028880"/>
          </a:xfrm>
        </p:grpSpPr>
        <p:sp>
          <p:nvSpPr>
            <p:cNvPr id="175" name=""/>
            <p:cNvSpPr/>
            <p:nvPr/>
          </p:nvSpPr>
          <p:spPr>
            <a:xfrm>
              <a:off x="858960" y="4389480"/>
              <a:ext cx="7596000" cy="102708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840" y="5003640"/>
              <a:ext cx="18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ahl des Rek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09920" y="43876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6000" y="4789440"/>
              <a:ext cx="69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434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0120" y="296244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ruf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3520" y="140184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fs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7640" y="14018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elvereinba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254484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Geschäftsfüh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0160" y="27637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7920" y="3187800"/>
            <a:ext cx="25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 von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4800" y="36226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inrichtung und Aufhebung von Stu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6152E-006 L 3.05556E-006 0.07285 E">
                                      <p:cBhvr>
                                        <p:cTn id="19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geplante Modell 200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1080" y="1774800"/>
            <a:ext cx="8820000" cy="42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8960" y="2208240"/>
            <a:ext cx="4249440" cy="254628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7440" y="1774800"/>
            <a:ext cx="86774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49440" y="880920"/>
            <a:ext cx="6048360" cy="792000"/>
            <a:chOff x="1549440" y="880920"/>
            <a:chExt cx="6048360" cy="792000"/>
          </a:xfrm>
        </p:grpSpPr>
        <p:sp>
          <p:nvSpPr>
            <p:cNvPr id="194" name=""/>
            <p:cNvSpPr/>
            <p:nvPr/>
          </p:nvSpPr>
          <p:spPr>
            <a:xfrm>
              <a:off x="1549440" y="880920"/>
              <a:ext cx="6048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49440" y="100008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86240" y="2209680"/>
            <a:ext cx="3146400" cy="200664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28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kto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57880" y="2538360"/>
            <a:ext cx="243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ichtigen Beschlü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3402000"/>
            <a:ext cx="30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Grundord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46000" y="4873680"/>
            <a:ext cx="7608960" cy="1028160"/>
            <a:chOff x="846000" y="4873680"/>
            <a:chExt cx="7608960" cy="1028160"/>
          </a:xfrm>
        </p:grpSpPr>
        <p:sp>
          <p:nvSpPr>
            <p:cNvPr id="201" name=""/>
            <p:cNvSpPr/>
            <p:nvPr/>
          </p:nvSpPr>
          <p:spPr>
            <a:xfrm>
              <a:off x="858960" y="4875120"/>
              <a:ext cx="7596000" cy="102672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840" y="5489280"/>
              <a:ext cx="18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ahl des Rek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09920" y="48736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000" y="5275080"/>
              <a:ext cx="69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3434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0120" y="296244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ruf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3520" y="140184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fs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7640" y="14018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elvereinba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63640" y="254484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Geschäftsfüh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0160" y="27637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7920" y="3187800"/>
            <a:ext cx="25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 von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4800" y="36226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inrichtung und Aufhebung von Stu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2960" y="3862440"/>
            <a:ext cx="23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ellung der Dek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2040" y="27525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00640" y="2538360"/>
            <a:ext cx="18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29080" y="2971800"/>
            <a:ext cx="32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ktur- und Entwicklungs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84880" y="3198960"/>
            <a:ext cx="19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ushaltsentwu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45280" y="339732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rschlagsrecht für Rektorwah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97560" y="39448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hrheitlich Exte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6800" y="4092480"/>
            <a:ext cx="41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 und externe Zielvereinbaru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39880" y="6039000"/>
            <a:ext cx="37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örterung der Rechenschaftsberi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26735E-006 L 0.2 -0.07794 E">
                                      <p:cBhvr>
                                        <p:cTn id="25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1080" y="1774800"/>
            <a:ext cx="8820000" cy="42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46000" y="4873680"/>
            <a:ext cx="7608960" cy="1028160"/>
            <a:chOff x="846000" y="4873680"/>
            <a:chExt cx="7608960" cy="1028160"/>
          </a:xfrm>
        </p:grpSpPr>
        <p:sp>
          <p:nvSpPr>
            <p:cNvPr id="224" name=""/>
            <p:cNvSpPr/>
            <p:nvPr/>
          </p:nvSpPr>
          <p:spPr>
            <a:xfrm>
              <a:off x="858960" y="4875120"/>
              <a:ext cx="7596000" cy="102672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5840" y="5489280"/>
              <a:ext cx="18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ahl des Rek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09920" y="48736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6000" y="5275080"/>
              <a:ext cx="69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58960" y="2208240"/>
            <a:ext cx="4249440" cy="254628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s geplante Modell 200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858960" y="2208240"/>
            <a:ext cx="4249440" cy="217800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1774800"/>
            <a:ext cx="86774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5440" y="166212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49440" y="880920"/>
            <a:ext cx="6048360" cy="792000"/>
            <a:chOff x="1549440" y="880920"/>
            <a:chExt cx="6048360" cy="792000"/>
          </a:xfrm>
        </p:grpSpPr>
        <p:sp>
          <p:nvSpPr>
            <p:cNvPr id="235" name=""/>
            <p:cNvSpPr/>
            <p:nvPr/>
          </p:nvSpPr>
          <p:spPr>
            <a:xfrm>
              <a:off x="1549440" y="880920"/>
              <a:ext cx="6048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49440" y="100008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at / Minister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86240" y="2209680"/>
            <a:ext cx="3146400" cy="2006640"/>
          </a:xfrm>
          <a:prstGeom prst="rect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28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kto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7880" y="2538360"/>
            <a:ext cx="243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en v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46000" y="4475160"/>
            <a:ext cx="7619760" cy="1439280"/>
            <a:chOff x="846000" y="4475160"/>
            <a:chExt cx="7619760" cy="1439280"/>
          </a:xfrm>
        </p:grpSpPr>
        <p:sp>
          <p:nvSpPr>
            <p:cNvPr id="241" name=""/>
            <p:cNvSpPr/>
            <p:nvPr/>
          </p:nvSpPr>
          <p:spPr>
            <a:xfrm>
              <a:off x="858960" y="4477320"/>
              <a:ext cx="7606800" cy="143712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5840" y="5337000"/>
              <a:ext cx="18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ahl des Rek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3520" y="4475160"/>
              <a:ext cx="245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e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6000" y="5037120"/>
              <a:ext cx="69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ochschulordnungen, fakultätsübergreifende Angelegenheiten der Leh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43480" y="2209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chschul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0120" y="296244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ruf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73520" y="140184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fs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7640" y="14018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elvereinba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3640" y="254484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itung und Geschäftsfüh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0160" y="27637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tel- und Stellenzuweis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7920" y="3187800"/>
            <a:ext cx="25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hmigung von SO/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8720" y="3851280"/>
            <a:ext cx="29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rschlagsrecht für Dek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29080" y="2971800"/>
            <a:ext cx="32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ktur- und Entwicklungs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4880" y="3198960"/>
            <a:ext cx="19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ushaltsentwu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5280" y="339732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rschlagsrecht für Rektorwah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97560" y="39448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hrheitlich Exte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6800" y="4092480"/>
            <a:ext cx="41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 und externe Zielvereinbaru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35640" y="5365800"/>
            <a:ext cx="37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örterung der Rechenschaftsberi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62268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inrichtung und Aufhebung von Stud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3402000"/>
            <a:ext cx="30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chluss der Grundord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25560" y="4780080"/>
            <a:ext cx="33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rschlagsrecht für Hochschulr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10160" y="4775040"/>
            <a:ext cx="33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ungna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2960" y="3862440"/>
            <a:ext cx="23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ellung der Dek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2.63474E-006 L 0.00347 0.30904 E">
                                      <p:cBhvr>
                                        <p:cTn id="26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9.48415E-007 L 1.38889E-006 0.43095 E">
                                      <p:cBhvr>
                                        <p:cTn id="288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1052640"/>
            <a:ext cx="770400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e Novellierung 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ächsischen Hochschulgeset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form oder Rückschritt 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- offene Diskussion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6597720"/>
            <a:ext cx="5473800" cy="21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9:52:42Z</dcterms:created>
  <dc:creator>StuRa</dc:creator>
  <dc:description/>
  <dc:language>en-US</dc:language>
  <cp:lastModifiedBy>mung</cp:lastModifiedBy>
  <dcterms:modified xsi:type="dcterms:W3CDTF">2007-11-19T20:36:22Z</dcterms:modified>
  <cp:revision>25</cp:revision>
  <dc:subject/>
  <dc:title>Folie 1</dc:title>
</cp:coreProperties>
</file>