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C112-1CB5-40B3-AA72-CB4DB59BF6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67EE-A385-422A-9F75-E71A30F8F3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542-7DCA-4A42-9870-D7363338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CD27-BF27-4F42-9D4D-D7443485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F476-27AF-4E0F-A309-86959560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AE58-59A3-43E8-B0A7-45C8BBD2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BA32-6443-43B9-AFC9-69550F96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5C94-844B-4C11-8C74-51E29BCC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4EE6-7D5F-44B7-AE08-26E7CF06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1C3F-C748-4832-AD91-452C5155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9D35-62AD-4D0B-9D87-3C1CE3DC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B9D7-A6B8-4751-80BD-498A3080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819F-D43B-4CB8-AB51-E86F88F1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392B-0F93-46A8-A149-A15EDE62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BB5C-D511-4809-8C77-757230EC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BB0F-A2F9-439A-8F17-FC5AAAA2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C4E3-BDF2-42AB-BE43-77888BD7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4C21-DA53-4FEC-A710-9F1D1392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0E75-9B87-45AB-B290-08026428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3A5-6534-4907-9D15-68181117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CB3-8B63-4CD6-9250-769ECE3F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E88-D8B1-4FA5-AF12-218732D0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A746-2B90-4645-B9E1-8EB14E38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9212-B2BD-4007-A85C-5389FD24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FAE4-35B7-4E11-9959-14599AC5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FAF1-B219-4C28-9E99-00681032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57D8-9EF0-4AD4-A838-0B0D7501BDE2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C4C0-6098-425E-A23D-76CE10FC2D1D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Milestones in the Corpus of Cameroon English (CCE): research possibilities in an ESL Context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r. Daniel A. Nkemlek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epartment of Englis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Ecole Normale Supérie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University of Yaounde 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(Festschrift for Paul Mbangwaba, June 2008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troduction: Key dates in the C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Objective of the corp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urrent state of corp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nvisaged parallel corp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Research possibil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ncluding remar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5. Research possibilities (Cont’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vestigating interference features in C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6666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 have been wondering whether I should look for a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&lt;non-logement type="French" /&gt;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non-logement certificate and marriage certificate again for the money to go through? (PL00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6666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ut as they say &lt;"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L on ne lache jamais les cop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type="Cam-French" /&gt; "L on ne lache jamais les cops". (PL1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6666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 heard that your gastric is dealing with you. &lt;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eh h h ! Ashiaii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! type="Cam-pidgin" /&gt; Weh h h ! Ashiaii ! (PL 23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6666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rother, &lt;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as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type="Cam-pidgin" /&gt; Masa don't be angry with me. I regret the silence. (PL 239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5. </a:t>
            </a: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Research possibilities (Cont’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7080" y="1828800"/>
            <a:ext cx="819468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vestigating register variation within CamE using MF/MD approach (Biber 198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exical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-conjunc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e.g. consequently, furthermore, however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-downtoner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e.g. nearly, barely, slightly etc.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-hedg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e.g. at about, something like, almost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-amplifier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e.g. absolutely, extremely, perfectly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-demonstratives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e.g. this, that, those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9900"/>
                </a:solidFill>
                <a:latin typeface="Verdana"/>
              </a:rPr>
              <a:t>5. Research possibilities (Cont’)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5816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d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possibility (e.g. can, may, might, coul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necessity (e.g. ought, should, mus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predictive (e.g. will, would, shal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9900"/>
                </a:solidFill>
                <a:latin typeface="Verdana"/>
              </a:rPr>
              <a:t>5. Research possibilities (Cont’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Nominal fo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nominalization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nding in –tion, -ment, -ity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gerunds (participle forms functioning as noun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ass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agentless pass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by-pass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Lexical specifi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type/token rat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mean word leng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direct WH-Qu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5. Research possibilities (Cont’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pecialized lexical verb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ublic verb (e.g. assert, declare, mention, s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- private verbs (e.g. assume, believe, doubt, know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-suasive verbs (e.g. command, insist, propo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nou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- first person pronouns (e.g. I/w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- second person pronoun (e.g. you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- inclusive pronoun (e.g. we, u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5. Research possibilities (Cont‘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vestigating features of spoken English (a distant possibility??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rpus phon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9900"/>
                </a:solidFill>
                <a:latin typeface="Verdana"/>
              </a:rPr>
              <a:t>6. Concluding remarks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CCE is brainchild of Professor Paul Mbangwa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sp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udents’ participation cru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spoken component, an immediate challe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Appendix I: some research undertaken on the CCE so far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kemleke, Daniel (2008) Modality in novice academic writing: the case of African and German university students. English Projects in Teaching and Research in Central Europe. Göttingen: Cuvill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kemleke, Daniel (2007) Frequency and use of modals in Cameroon English. Lagos Papers in English Studies, vol. 1(2), 47-61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kemleke, Daniel (2007) Frequency and use of modals in Cameroon English and application to language education. Indian Journal of Applied Linguistics, vol. 33, No. 1, 87-105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kemleke, Daniel (2005) Must and Should in Cameroon English. Nordic Journal for African Studies, vol. 14 No. 1, 27-6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kemleke, Daniel (2004) Context and Function of Need and Be able to in Cameroon English. Indian Journal of Applied Linguistics, vol. 12 No. 2, 23-3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Appendix I: some research undertaken on the CCE (Cont‘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kemleke, Daniel (2004) A corpus-based study of the modal verbs in Cameroonian and British English. CASTALIA: Ibadan Journal of Multicultural &amp; Multidisciplinary Studies, vol. 19, 1-2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kemleke, Daniel and Paul Mbangwana (2001) The modals of and Obligation and Necessity in Cameroon English. CASTALIA: Ibadan Journal of Multicultural &amp; Multidisciplinary Studies vol. 6, 1-14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omajou, David (1993) Designing the Corpus of Cameroon English. ICAME Journal, 17, 119-12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e: Hans-Georg Wolf used data from the corpus in his book English in Cameroon, published in 2001 by Mouton de Gruyter (Berlin/New York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Appendix I: some research undertaken on the CCE (Cont‘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kemleke, Daniel (2008) Please-requests in Cameroonian and East-African private (social) letters”.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iscourse and Interac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/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Brno: Masaryk Universit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. Nkemleke, Daniel (2008) Frequency and variety of if-constructions in Cameroon English. In: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nglish Studies and Language Teaching 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Department of English, University of Pils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1. Schmied Josef and Nkemleke, Daniel (2008) Prepositions in Cameroon and Kenyan English: corpus-linguistic comparisons of simplification and expressivity.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World Englishes: Problems-Properties-Prospec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to be published by John Benjamin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. Schmied, Josef and Nkemleke, Daniel (2008) Reference, coherence and complexity in students’ academic writing: examples from Cameroon and East-Africa corpus.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agmatics, Language and Literature: A Festschrift for Efurisibina Adegbij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3. Nkemleke, Daniel (2008) The Expression of Modality in Cameroon English”.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pproaches to Cameroon English: Features, Structure, and New Perspectiv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for the series Varieties of English around the World (John Benjamins) Edited by Edgar W. Schneid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Introduction: key dates in the CCE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fore 1992: link between the then university of Yaounde &amp;  School of English, University of Birmingh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992: initial blueprint of the Corpus of Cameroon Englis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992–1994: support from local and foreign colleagu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994: initial target of a million-word reached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</a:t>
            </a:r>
            <a:r>
              <a:rPr b="1" lang="fr-FR" sz="3600" spc="-1" strike="noStrike">
                <a:solidFill>
                  <a:srgbClr val="999900"/>
                </a:solidFill>
                <a:latin typeface="Garamond"/>
              </a:rPr>
              <a:t>END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9900"/>
                </a:solidFill>
                <a:latin typeface="Verdana"/>
              </a:rPr>
              <a:t>Introduction: Key dates in the CCE (Cont’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995 onward: exploitation of corpus for research and classroom activ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03 major research completed, using corpus as datab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04-2008: over 16 publications/books based on corp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06-2008: corpus underwent major restructuring (editing and taggi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2. Objective of corpus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provide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 textual basis for a quantitative study of Ca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ovide a database for the description of the main features and problems inherent in the variety of English which is written in Camero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erve as a database for comparative studies on CamE in relation to other varieties of Englis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ovide a source of authentic material for English language teaching in Cameroon 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3. Current state of corpus (Table 1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905120"/>
          <a:ext cx="6019920" cy="4417920"/>
        </p:xfrm>
        <a:graphic>
          <a:graphicData uri="http://schemas.openxmlformats.org/drawingml/2006/table">
            <a:tbl>
              <a:tblPr/>
              <a:tblGrid>
                <a:gridCol w="2716200"/>
                <a:gridCol w="1474920"/>
                <a:gridCol w="182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 categori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. of tex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. of wo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: Official P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6,539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: Private P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,098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: Novels &amp; Short Sto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,096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: Reli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,380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: Tour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881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: Official let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,285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: Private let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,386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: Students’ Ess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7,399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: Government Me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,368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: Advertis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875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: 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9,247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20,554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4. Envisaged parallel (written) corpus: ICE-CAM</a:t>
            </a:r>
            <a:r>
              <a:rPr b="1" lang="en-US" sz="2400" spc="-1" strike="noStrike">
                <a:solidFill>
                  <a:srgbClr val="999900"/>
                </a:solidFill>
                <a:latin typeface="Verdana"/>
              </a:rPr>
              <a:t> (Table 2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138560"/>
        </p:xfrm>
        <a:graphic>
          <a:graphicData uri="http://schemas.openxmlformats.org/drawingml/2006/table">
            <a:tbl>
              <a:tblPr/>
              <a:tblGrid>
                <a:gridCol w="1828800"/>
                <a:gridCol w="6400800"/>
              </a:tblGrid>
              <a:tr h="15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 Essays              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 Scripts                 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cial Letters                (1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iness Letters            (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pri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umanities         (10)    Social Science s       (1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ural Sciences (10)    Technology              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cial Sciences   (10)     Natural Sciences      (10) Technology        (10)      Press reports          (20)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ls               (10)      Skills/hobbies        (1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ditorials           (10)      Administrative        (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400,000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4. </a:t>
            </a: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Envisaged parallel (written) corpus: ICE-CAM</a:t>
            </a:r>
            <a:r>
              <a:rPr b="1" lang="en-US" sz="2400" spc="-1" strike="noStrike">
                <a:solidFill>
                  <a:srgbClr val="999900"/>
                </a:solidFill>
                <a:latin typeface="Verdana"/>
              </a:rPr>
              <a:t> (Cont’) (Table 3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5435640"/>
        </p:xfrm>
        <a:graphic>
          <a:graphicData uri="http://schemas.openxmlformats.org/drawingml/2006/table">
            <a:tbl>
              <a:tblPr/>
              <a:tblGrid>
                <a:gridCol w="1828800"/>
                <a:gridCol w="6400800"/>
              </a:tblGrid>
              <a:tr h="251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lo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rsations               (9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one calls                    (10)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 Lessons                (20)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oadcast Discussions    (20)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oadcast Interviews      (10)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liamentary Debates   (10)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oss-examinations       (10)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iness Transactions    (10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olo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entaries               (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scripted Speeches      (30)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monstrations             (10)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gal Presentations        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oadcast News             (20)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oadcast Talks             (20)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roadcast  Talks     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: 600,000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5. Research possibilities</a:t>
            </a:r>
            <a:br>
              <a:rPr sz="2400"/>
            </a:b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7080" y="2128320"/>
            <a:ext cx="81946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rve as a basis for qualitative and quantitative comparative research on Cameroon English and other varieties of Engli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esting frequency and/regularity of features of CamE usage (e.g. see Simo Bobda 2002) &amp; comparing with other corpo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5. Research possibilities (Cont’)</a:t>
            </a:r>
            <a:br>
              <a:rPr sz="2400"/>
            </a:b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03448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vide a basis for practical and lexicological description of Cameroonian English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How common are different words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How common are different senses of different words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o some words have systematic associations with other particular words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8:47:47Z</dcterms:created>
  <dc:creator>Ellen</dc:creator>
  <dc:description/>
  <dc:language>en-US</dc:language>
  <cp:lastModifiedBy>ellGuest</cp:lastModifiedBy>
  <dcterms:modified xsi:type="dcterms:W3CDTF">2013-07-03T09:48:23Z</dcterms:modified>
  <cp:revision>357</cp:revision>
  <dc:subject/>
  <dc:title>Corpus Linguistics</dc:title>
</cp:coreProperties>
</file>