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5E58-5132-4BC6-889B-C4F5784AF7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2FE4-376B-41CF-B067-0448D64E5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54A-F22C-4100-BEBF-F66A104E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660-E341-4709-AB56-8B81BFF3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F53-5465-48D9-A0B3-EC41537E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CAA-05D0-4C80-A2BE-E59A439D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D330-025F-4C36-B337-1FC544F3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5FD6-EAFF-491D-82AD-15F6621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9AE4-65C0-4527-9A30-8DC6D7AA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F7F7-4A96-4EB6-B4F0-C650438C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3065-12B7-4032-B96B-C5725432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F79A-75C5-4376-810C-03A5C9AF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4841-8151-4938-AD18-7C0422D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B2C-E37C-44ED-AE4D-E76A1AE7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3BEB-A86F-4CEA-9650-136D495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12B7-FAB6-4A68-BEE7-86A7EDF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FB2F-F9D3-4E24-B0C9-70059865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17B-B9AD-4FAA-9C35-CC836B03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5C60-0918-470E-A2CF-6F21BF48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B08-4F5F-4B68-BB12-B7945B7F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BCF-AB3E-41C7-8E4A-4806D51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4BD-4991-4111-8A0C-43161B1F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311-EC5C-491B-B177-583B1C0D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DAC-2D0E-4A10-8EAD-E8AAAC26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E62-D39A-4A1C-B64A-573B9D45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FAB-2D2D-4199-8F88-C3C6CE7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04F3-A6F0-46D4-A402-CCCA3711CD7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1440-C876-4186-BF05-E80829F83264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Milestones in the Corpus of Cameroon English (CCE): research possibilities in an ESL Context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r. Daniel A. Nkemlek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epartment of Engli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cole Normale Supérie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University of Yaounde 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Festschrift for Paul Mbangwaba, June 2008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Introduction: Key dates in the C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bjective of the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urrent state of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visaged parallel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search possib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cluding remar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estigating interference features in C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 have been wondering whether I should look for a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&lt;non-logement type="French" /&gt;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non-logement certificate and marriage certificate again for the money to go through? (PL00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ut as they say &lt;"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 on ne lache jamais les cop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ype="Cam-French" /&gt; "L on ne lache jamais les cops". (PL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 heard that your gastric is dealing with you. &lt;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eh h h ! Ashiaii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! type="Cam-pidgin" /&gt; Weh h h ! Ashiaii ! (PL 23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rother, &lt;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s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ype="Cam-pidgin" /&gt; Masa don't be angry with me. I regret the silence. (PL 239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5. </a:t>
            </a: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7080" y="1828800"/>
            <a:ext cx="819468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estigating register variation within CamE using MF/MD approach (Biber 198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exical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conjunc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consequently, furthermore, however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downtone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nearly, barely, slightly etc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hedg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at about, something like, almost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amplifie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e.g. absolutely, extremely, perfectly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demonstrative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e.g. this, that, thos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d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possibility (e.g. can, may, might, coul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necessity (e.g. ought, should, mu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predictive (e.g. will, would, sha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minal fo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nominalizatio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ding in –tion, -ment, -it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gerunds (participle forms functioning as nou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agentless 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by-pass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Lexical specifi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type/token rat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mean word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-direct WH-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pecialized lexical verb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ublic verb (e.g. assert, declare, mention, s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private verbs (e.g. assume, believe, doubt, know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suasive verbs (e.g. command, insist, propo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nou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first person pronouns (e.g. I/w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second person pronoun (e.g. y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- inclusive pronoun (e.g. we, u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5. Research possibilities (Cont‘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estigating features of spoken English (a distant possibility?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rpus pho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6. Concluding remark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CCE is brainchild of Professor Paul Mbangw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sp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udents’ participation cru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poken component, an immediate challe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Appendix I: some research undertaken on the CCE so far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8) Modality in novice academic writing: the case of African and German university students. English Projects in Teaching and Research in Central Europe. Göttingen: Cuvil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7) Frequency and use of modals in Cameroon English. Lagos Papers in English Studies, vol. 1(2), 47-61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7) Frequency and use of modals in Cameroon English and application to language education. Indian Journal of Applied Linguistics, vol. 33, No. 1, 87-10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5) Must and Should in Cameroon English. Nordic Journal for African Studies, vol. 14 No. 1, 27-6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4) Context and Function of Need and Be able to in Cameroon English. Indian Journal of Applied Linguistics, vol. 12 No. 2, 23-3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Appendix I: some research undertaken on the CCE (Cont‘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4) A corpus-based study of the modal verbs in Cameroonian and British English. CASTALIA: Ibadan Journal of Multicultural &amp; Multidisciplinary Studies, vol. 19, 1-2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and Paul Mbangwana (2001) The modals of and Obligation and Necessity in Cameroon English. CASTALIA: Ibadan Journal of Multicultural &amp; Multidisciplinary Studies vol. 6, 1-14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omajou, David (1993) Designing the Corpus of Cameroon English. ICAME Journal, 17, 119-12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Hans-Georg Wolf used data from the corpus in his book English in Cameroon, published in 2001 by Mouton de Gruyter (Berlin/New York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Appendix I: some research undertaken on the CCE (Cont‘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kemleke, Daniel (2008) Please-requests in Cameroonian and East-African private (social) letters”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scourse and Interac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/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Brno: Masaryk Univers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. Nkemleke, Daniel (2008) Frequency and variety of if-constructions in Cameroon English. In: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glish Studies and Language Teaching 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partment of English, University of Pils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. Schmied Josef and Nkemleke, Daniel (2008) Prepositions in Cameroon and Kenyan English: corpus-linguistic comparisons of simplification and expressivity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World Englishes: Problems-Properties-Prospec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o be published by John Benjamin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. Schmied, Josef and Nkemleke, Daniel (2008) Reference, coherence and complexity in students’ academic writing: examples from Cameroon and East-Africa corpus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agmatics, Language and Literature: A Festschrift for Efurisibina Adegbij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. Nkemleke, Daniel (2008) The Expression of Modality in Cameroon English”.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pproaches to Cameroon English: Features, Structure, and New Perspectiv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for the series Varieties of English around the World (John Benjamins) Edited by Edgar W. Schnei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Introduction: key dates in the CC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fore 1992: link between the then university of Yaounde &amp;  School of English, University of Birmingh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2: initial blueprint of the Corpus of Cameroon Engli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2–1994: support from local and foreign colleagu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4: initial target of a million-word reache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</a:t>
            </a:r>
            <a:r>
              <a:rPr b="1" lang="fr-FR" sz="3600" spc="-1" strike="noStrike">
                <a:solidFill>
                  <a:srgbClr val="999900"/>
                </a:solidFill>
                <a:latin typeface="Garamond"/>
              </a:rPr>
              <a:t>END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9900"/>
                </a:solidFill>
                <a:latin typeface="Verdana"/>
              </a:rPr>
              <a:t>Introduction: Key dates in the CCE (Cont’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95 onward: exploitation of corpus for research and classroom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3 major research completed, using corpus as data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4-2008: over 16 publications/books based on corp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6-2008: corpus underwent major restructuring (editing and tagg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2. Objective of corpu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rovid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textual basis for a quantitative study of C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a database for the description of the main features and problems inherent in the variety of English which is written in Camero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erve as a database for comparative studies on CamE in relation to other varieties of Englis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vide a source of authentic material for English language teaching in Cameroon 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3. Current state of corpus (Table 1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905120"/>
          <a:ext cx="6019920" cy="4417920"/>
        </p:xfrm>
        <a:graphic>
          <a:graphicData uri="http://schemas.openxmlformats.org/drawingml/2006/table">
            <a:tbl>
              <a:tblPr/>
              <a:tblGrid>
                <a:gridCol w="2716200"/>
                <a:gridCol w="1474920"/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catego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. of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: Official P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6,539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: Private P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,098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: Novels &amp; Short St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,096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: Reli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,380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: Tou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881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: Official let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285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: Private let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,386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: Students’ Ess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7,399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: Government M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,368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: Adverti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75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: 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,247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0,554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4. Envisaged parallel (written) corpus: ICE-CAM</a:t>
            </a: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 (Table 2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13856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15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 Essays      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 Scripts         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 Letters                (1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Letters           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pri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manities         (10)    Social Science s       (1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al Sciences (10)    Technology      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 Sciences   (10)     Natural Sciences      (10) Technology        (10)      Press reports          (20)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ls               (10)      Skills/hobbies        (1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itorials           (10)      Administrative        (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400,000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9900"/>
                </a:solidFill>
                <a:latin typeface="Verdana"/>
              </a:rPr>
              <a:t>4. </a:t>
            </a: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Envisaged parallel (written) corpus: ICE-CAM</a:t>
            </a: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 (Cont’) (Table 3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5435640"/>
        </p:xfrm>
        <a:graphic>
          <a:graphicData uri="http://schemas.openxmlformats.org/drawingml/2006/table">
            <a:tbl>
              <a:tblPr/>
              <a:tblGrid>
                <a:gridCol w="1828800"/>
                <a:gridCol w="6400800"/>
              </a:tblGrid>
              <a:tr h="25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sations               (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ne calls                    (10)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Lessons            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Discussions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Interviews   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liamentary Debates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ss-examinations    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Transactions    (10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ntaries               (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scripted Speeches      (3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monstrations             (1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al Presentations   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News         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oadcast Talks             (20)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roadcast  Talks     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: 600,000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080" y="2128320"/>
            <a:ext cx="81946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rve as a basis for qualitative and quantitative comparative research on Cameroon English and other varieties of Engli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Testing frequency and/regularity of features of CamE usage (e.g. see Simo Bobda 2002) &amp; comparing with other corp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00"/>
                </a:solidFill>
                <a:latin typeface="Verdana"/>
              </a:rPr>
              <a:t>5. Research possibilities (Cont’)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03448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vide a basis for practical and lexicological description of Cameroonian English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ow common are different word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How common are different senses of different word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o some words have systematic associations with other particular word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8:47:47Z</dcterms:created>
  <dc:creator>Ellen</dc:creator>
  <dc:description/>
  <dc:language>en-US</dc:language>
  <cp:lastModifiedBy>ellGuest</cp:lastModifiedBy>
  <dcterms:modified xsi:type="dcterms:W3CDTF">2013-07-03T09:48:23Z</dcterms:modified>
  <cp:revision>357</cp:revision>
  <dc:subject/>
  <dc:title>Corpus Linguistics</dc:title>
</cp:coreProperties>
</file>