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2E57-F518-4C84-867F-24941942B1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4D54-E228-4FB4-B6E4-66C72A85A8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003B-3B8A-45E8-AE0F-8E92129738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6C2B-3C2B-4603-8677-266431FC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8BB4-5EA8-40E5-9DB9-86790ECE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FA74-30EB-464E-85A4-9857EE45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E63-E95B-4A40-8C4E-7235D2B2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39A3-7364-4232-811E-1F1326B3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D74F-9E95-4F6E-87AA-FD8565E2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7E91-69DF-4464-B3C9-4741598E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595F-CEA5-4B0D-9C35-783093B6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29C7-E354-4D66-8117-8434F7A9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5747-3A75-43FC-AAF9-8E8384AB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B4B3-ADB3-4EEC-B943-BEFB7BA0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D7DD-17B7-4EE9-9802-8CC7F74F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F129-12ED-4C09-9BD0-66C2472F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CF94-1623-48A9-8391-6470D30F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04D2-0A0F-4224-B039-1F04450F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CC61-FA95-490E-8152-83A16577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66F1-8FB6-40B7-8411-F3CF992C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0821-8D2B-4341-8A5C-30AF0FCF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419E-A469-4F51-8703-513EC768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A962-3140-4824-9940-9586BFA5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DFA3-F148-4527-A5D6-C1DAA278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D831-BFE0-40CF-812F-50C847C2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F24-693D-475C-BB2E-DC416502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8A9A-8002-4EE4-99C7-8A58F6C7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AA9C-22EF-4F67-99A2-9121AB573E1A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0575-15DC-4D45-A703-A082BFAD40C5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Corpus Linguistics and Language Education: Development and Utility of the Corpus of Cameroon English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aniel A. Nkemlek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epartment of Englis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Ecole Normale Supérie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University of Yaounde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roduction: Corpus Linguistics, hist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me (main) existing corpo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velopment of the Corpus of Cameroon English (C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rpus utility with reference to the C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sp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Four main characteristics of a corpus (con‘t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87080" y="2128320"/>
            <a:ext cx="81946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Standard refer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acitly a corpus constitutes a standard refer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esupposition: wide availability to other research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rect comparison of results with other varie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Development of the Corpus of Cameroon English (CCE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03412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egan in 1992 with the collaboration of tw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ritish universities (Birmingham/Liverpoo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ssistance of the British council in Yaound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arget of a million words reached in 199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ata use for classroom activities/research since th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: project benefited from a grant of the Av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→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oal: Further development (tagging) of the datab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TU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emnitz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9900"/>
                </a:solidFill>
                <a:latin typeface="Verdana"/>
              </a:rPr>
              <a:t>Objective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vide authentic data for the description of the main features and problems inherent in the variety of English which is written in Camero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vide a source of authentic material for English language teaching/learning in Camero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rve as a database for comparative studies on CamE in relation to other varieties of Englis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Text categories: written component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76520"/>
          <a:ext cx="6051600" cy="4154400"/>
        </p:xfrm>
        <a:graphic>
          <a:graphicData uri="http://schemas.openxmlformats.org/drawingml/2006/table">
            <a:tbl>
              <a:tblPr/>
              <a:tblGrid>
                <a:gridCol w="2502000"/>
                <a:gridCol w="1774800"/>
                <a:gridCol w="17748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 categori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. of tex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. of wo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: Official P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6,539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: Private P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,098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: Novels &amp; Short Sto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,096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: Relig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,380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: Tour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881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: Official let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,285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: Private let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,386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: Students’ Ess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7,399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: Government Mem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,368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: Advertis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875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: Miscellaneo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9,247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20,554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umsplatzhalter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Text categories: spoken component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ialog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. Convers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. Phone ca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. Broadcast discu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. Classroom les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. Intervie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. Parliamentary deb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7. Legal cross- examin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. Business trans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Monolog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mentar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. Demonst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3. Legal Present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4. Broadcast New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5. Broadcast Tal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6. Non-broadcast Tal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Corpus utility with reference to CCE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3 possible ways in which a corpus may be usef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de-DE" sz="1600" spc="-1" strike="noStrike">
                <a:solidFill>
                  <a:srgbClr val="0000ff"/>
                </a:solidFill>
                <a:latin typeface="Verdana"/>
              </a:rPr>
              <a:t>1.  </a:t>
            </a: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Corpora as a source of empirical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2.  Corpora in language teaching and learn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3.  Corpora in Lexical stud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4.  Corpora in grammar stud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5.  Corpora in speech resear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6.  Corpora and semantic stud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7.  Corpora in pragmatic and discourse stud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8.  Corpora in sociolinguistic stud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9.  Corpora and stylistic stud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0. Corpora in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istorical linguist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1. Corpora in dialectology and variational stud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2. Corpora in Psycholinguist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3. Corpora in cultural studies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1. </a:t>
            </a: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Corpus as a source of empirical data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87080" y="1828800"/>
            <a:ext cx="819468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inguists can make more objective statements on language use in the variety, comparing other varie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kemleke /Mbangwana (200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kemleke (200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kemleke (2004a, 2004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kemleke (200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kemleke(200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kemleke (2007a, 2007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kemleke(fc: 2008a, 2008b, 2008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Schmied/Nkemleke (fc:2008a, 2008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number of post-graduate projects in ENS/Facul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2. Corpora in language teaching/learning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5816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CE data used for classroom activities over the ye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9900"/>
                </a:solidFill>
                <a:latin typeface="Verdana"/>
              </a:rPr>
              <a:t>Concordances : arrive _ NP (Simplification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76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9900"/>
                </a:solidFill>
                <a:latin typeface="Verdana"/>
              </a:rPr>
              <a:t>Value of concordances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pport teachers’ classroom expla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earner’s a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search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ata-driven learn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ritical look at existing language teaching mate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umsplatzhalter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Corpus Linguistics and Language Education: Development and Utility of the Corpus of Cameroon English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aniel A. Nkemlek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epartment of Englis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Ecole Normale Supérie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University of Yaounde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roduction: Corpus Linguistics, hist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me (main) existing corpo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velopment of the Corpus of Cameroon English (C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rpus utility with reference to the C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sp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Natural data for textbook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CE data used for studies on aspects of Cameroon English usage, E.g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ans-Georg Wolf used data from the corpus in his book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English in Camero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published in 2001 by Mouton de Grouter (Berlin/New York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3. Corpora in Lexical Studies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Keep informed about new words, changing mean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all up word combinations, co-occurring wor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9900"/>
                </a:solidFill>
                <a:latin typeface="Verdana"/>
              </a:rPr>
              <a:t>Prospect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CE-Cameroon is on-go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uture possibility of more specialized corpo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.g. Academic texts, Fi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9900"/>
                </a:solidFill>
                <a:latin typeface="Verdana"/>
              </a:rPr>
              <a:t>END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 Unicode MS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Introduction: what is Corpus Linguistics?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study of language based on examples of “real life“ language use, collected, stored and processed via compu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acilitated by the advent of computer technology (1960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atin: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corpu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body): body of text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any collec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f more than one text, written or spok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9900"/>
                </a:solidFill>
                <a:latin typeface="Verdana"/>
              </a:rPr>
              <a:t>Introduction (con’t): brief history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efore 1940s/1950s: “early corpus linguistics“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corpus-based methodology (“Primitive corpora?“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etween 1960s and 1980s: minority of linguists continued working on corpus-based work (Quirk: SEU, Francis &amp; Kucera: Brown corpus, Svartik: London-Lund corpu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puter technology: major support for C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rst African Corpus: 1989 (ICE-East Africa) (Schmied 198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Second African Corpus: 1992 CCE (Tiamajou 1993)/ Nigeria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umsplatzhalter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9900"/>
                </a:solidFill>
                <a:latin typeface="Verdana"/>
              </a:rPr>
              <a:t>Introduction (con’t): brief history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“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irty years ago when this research started it was considered impossible to process texts of several million words in length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wenty years ago it was considered marginally possible but lunatic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en years ago it was considered quite possible but still lunatic. Today it is very popular“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Thomas/Short 1996: 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7" descr="tabelle"/>
          <p:cNvPicPr/>
          <p:nvPr/>
        </p:nvPicPr>
        <p:blipFill>
          <a:blip r:embed="rId1"/>
          <a:stretch/>
        </p:blipFill>
        <p:spPr>
          <a:xfrm>
            <a:off x="4734000" y="1752480"/>
            <a:ext cx="3227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Some (main) existing corpora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L1 Corpo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rown Corpus of American Engli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ancaster-Oslo/Bergen Corpus (LO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ondon-Lund Corp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ritish National Corpus (BN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irmingham Corpus of British Engli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L2 Corpo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CE-East Africa (Kenya &amp; Tanzani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orpus of Cameroon English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orpus of Nigerian English 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olhapur Corpus of Indian Englis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Multinational Corpus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ternational Corpus of English (I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4 main characteristics of a corpus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946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6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Sampling &amp; representativ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6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6440" indent="-40644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est in whole variety of Engli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6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6440" indent="-40644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ttempts to construct a “representative” sample corp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6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6440" indent="-40644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ich maximally represents varie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6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6440" indent="-40644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im: picture as accurate and reasonable as possible of a language pop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06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Four main characteristic of a corpus (Con‘t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818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Finite siz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ody of finite amount of words, e.g. 1,000,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igure determined at beginning of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onitor corpus: constant addition of tex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umsplatzhalt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aniel Nkemleke, Humboldt Kolleg Kamerun, 30/07/2008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Four main characteristics of a corpus (con‘t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080" y="2304720"/>
            <a:ext cx="8194680" cy="33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Machine-readable 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ast: reference to printed 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Nowadays: implication, machine-red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ew in book form (e.g. original London-Lun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Occasionally other forms of media (microfiche, recordin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8:47:47Z</dcterms:created>
  <dc:creator>Ellen</dc:creator>
  <dc:description/>
  <dc:language>en-US</dc:language>
  <cp:lastModifiedBy>ellGuest</cp:lastModifiedBy>
  <dcterms:modified xsi:type="dcterms:W3CDTF">2013-07-03T09:49:26Z</dcterms:modified>
  <cp:revision>299</cp:revision>
  <dc:subject/>
  <dc:title>Corpus Linguistics</dc:title>
</cp:coreProperties>
</file>