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EE85-1886-4238-91D2-6D25504ADB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4156-7133-4878-9ECE-DB2E1CADD3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21BF-71F5-4EF5-B092-BC2D5FB08F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B1E-F55F-4A16-B950-3727FF6A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86C-FB67-498F-B4BE-E1D7CB23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BF7-E9FF-43C5-BD15-BA1EA99E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1A1-930F-4D98-BA6D-5329B443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5C5B-EEF4-4024-9714-A02C8CEC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9055-7FFA-461E-A575-CAAE14B7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2E27-F738-470F-ADF0-4B7EF681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3330-0114-4CC5-B0AA-095C8338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073B-CA55-4260-AF16-72C4337A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A769-BCB4-4C3C-BA2B-EC3EE08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BAB8-DD3E-489B-A6AC-99BD48BE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916-7203-4479-B7E3-6CBA8342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5221-8791-4A1E-BC96-F6C1477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D5EF-3325-4F00-B5BB-145A744B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5E0D-5D6E-4DCC-81FA-E0FAE729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147F-6959-48C8-A23C-822A2137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5B41-A74E-4D68-B9C0-E035C21A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4A5-B677-4420-A872-2F74C26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8F1-E9E2-4B3F-A79F-AC3EBB66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392-47E5-4FB1-9726-9665772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A64-F1CE-4AA5-B005-8D2473BC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D30-AED5-405B-AEC1-6C876CC6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B92-CA6F-41AD-BD99-C6B52D3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F61-DE53-4E2B-B492-0B77C28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6B97-0D6D-403D-B207-0C9E6BE55FA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1B45-7865-4766-9033-D2CBC5D0F85E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Corpus Linguistics and Language Education: Development and Utility of the Corpus of Cameroon English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aniel A. Nkemlek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epartment of Englis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cole Normale Supérie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University of Yaound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roduction: Corpus Linguistics, his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(main) existing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velopment of the Corpus of Cameroon English (C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rpus utility with reference to the C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sp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Four main characteristics of a corpus (con‘t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7080" y="2128320"/>
            <a:ext cx="81946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Standard refe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acitly a corpus constitutes a standard refe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supposition: wide availability to other resear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rect comparison of results with other varie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Development of the Corpus of Cameroon English (CCE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3412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gan in 1992 with the collaboration of tw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ritish universities (Birmingham/Liverp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sistance of the British council in Yaound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arget of a million words reached in 19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 use for classroom activities/research since t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: project benefited from a grant of the Av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→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al: Further development (tagging) of the data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TU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emnit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vide authentic data for the description of the main features and problems inherent in the variety of English which is written in Camero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vide a source of authentic material for English language teaching/learning in Camero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ve as a database for comparative studies on CamE in relation to other varieties of Englis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Text categories: written component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76520"/>
          <a:ext cx="6051600" cy="4154400"/>
        </p:xfrm>
        <a:graphic>
          <a:graphicData uri="http://schemas.openxmlformats.org/drawingml/2006/table">
            <a:tbl>
              <a:tblPr/>
              <a:tblGrid>
                <a:gridCol w="2502000"/>
                <a:gridCol w="1774800"/>
                <a:gridCol w="1774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catego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 of tex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 of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: Official P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,539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: Private P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,098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: Novels &amp; Short St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,096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: Reli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,38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: Tour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88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: Official let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285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: Private let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,386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: Students’ Ess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7,399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: Government Me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368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: Advertis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75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: Miscellane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,247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0,554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umsplatzhalter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Text categories: spoken component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alog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Convers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Phone ca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Broadcast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Classroom les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Intervie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Parliamentary deb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Legal cross- exam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Business trans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Monolog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menta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. Demonst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Legal Presen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Broadcast Ne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. Broadcast Tal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. Non-broadcast Tal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Corpus utility with reference to CCE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3 possible ways in which a corpus may be usef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0000ff"/>
                </a:solidFill>
                <a:latin typeface="Verdana"/>
              </a:rPr>
              <a:t>1.  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Corpora as a source of empirical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2.  Corpora in language teaching and lear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3.  Corpora in Lexical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 Corpora in grammar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.  Corpora in speech resear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.  Corpora and semantic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7.  Corpora in pragmatic and discourse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8.  Corpora in sociolinguistic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9.  Corpora and stylistic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0. Corpora i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istorical linguist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1. Corpora in dialectology and variational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2. Corpora in Psycholinguist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3. Corpora in cultural studi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1. </a:t>
            </a: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Corpus as a source of empirical data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7080" y="1828800"/>
            <a:ext cx="819468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guists can make more objective statements on language use in the variety, comparing other varie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/Mbangwana (200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(200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(2004a, 2004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(200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(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(2007a, 2007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(fc: 2008a, 2008b, 2008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chmied/Nkemleke (fc:2008a, 2008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number of post-graduate projects in ENS/Facul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2. Corpora in language teaching/learning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581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CE data used for classroom activities over the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Concordances : arrive _ NP (Simplification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Value of concordance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pport teachers’ classroom expla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earner’s a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ata-driven lear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itical look at existing language teaching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umsplatzhalter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Corpus Linguistics and Language Education: Development and Utility of the Corpus of Cameroon English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aniel A. Nkemlek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epartment of Englis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cole Normale Supérie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University of Yaound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roduction: Corpus Linguistics, his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(main) existing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velopment of the Corpus of Cameroon English (C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rpus utility with reference to the C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sp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Natural data for textbook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CE data used for studies on aspects of Cameroon English usage, E.g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ns-Georg Wolf used data from the corpus in his book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English in Camero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published in 2001 by Mouton de Grouter (Berlin/New York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3. Corpora in Lexical Studie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eep informed about new words, changing mean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ll up word combinations, co-occurring wo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Prospect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CE-Cameroon is on-go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ture possibility of more specialized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 Academic texts, Fi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END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Unicode MS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Introduction: what is Corpus Linguistics?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study of language based on examples of “real life“ language use, collected, stored and processed via compu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cilitated by the advent of computer technology (1960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tin: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orpu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body): body of text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ny collec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 more than one text, written or spo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Introduction (con’t): brief history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fore 1940s/1950s: “early corpus linguistics“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corpus-based methodology (“Primitive corpora?“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tween 1960s and 1980s: minority of linguists continued working on corpus-based work (Quirk: SEU, Francis &amp; Kucera: Brown corpus, Svartik: London-Lund corpu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technology: major support for 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rst African Corpus: 1989 (ICE-East Africa) (Schmied 198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econd African Corpus: 1992 CCE (Tiamajou 1993)/ Nigeria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umsplatzhalter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Introduction (con’t): brief history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“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irty years ago when this research started it was considered impossible to process texts of several million words in lengt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enty years ago it was considered marginally possible but lunatic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n years ago it was considered quite possible but still lunatic. Today it is very popular“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Thomas/Short 1996: 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7" descr="tabelle"/>
          <p:cNvPicPr/>
          <p:nvPr/>
        </p:nvPicPr>
        <p:blipFill>
          <a:blip r:embed="rId1"/>
          <a:stretch/>
        </p:blipFill>
        <p:spPr>
          <a:xfrm>
            <a:off x="4734000" y="1752480"/>
            <a:ext cx="3227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Some (main) existing corpora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L1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rown Corpus of American Engl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ancaster-Oslo/Bergen Corpus (LO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ondon-Lund Corp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ritish National Corpus (BN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irmingham Corpus of British Engl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L2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CE-East Africa (Kenya &amp; Tanzan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rpus of Cameroon Englis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rpus of Nigerian English 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lhapur Corpus of Indian Englis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ultinational Corpus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rnational Corpus of English (I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4 main characteristics of a corpu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946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ampling &amp; representativ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est in whole variety of Engl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tempts to construct a “representative” sample corp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ich maximally represents varie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im: picture as accurate and reasonable as possible of a language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Four main characteristic of a corpus (Con‘t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818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Finite si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ody of finite amount of words, e.g. 1,000,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igure determined at beginning of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onitor corpus: constant addition of tex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Four main characteristics of a corpus (con‘t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080" y="2304720"/>
            <a:ext cx="819468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Machine-readable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ast: reference to printed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owadays: implication, machine-red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w in book form (e.g. original London-Lun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ccasionally other forms of media (microfiche, recordin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8:47:47Z</dcterms:created>
  <dc:creator>Ellen</dc:creator>
  <dc:description/>
  <dc:language>en-US</dc:language>
  <cp:lastModifiedBy>ellGuest</cp:lastModifiedBy>
  <dcterms:modified xsi:type="dcterms:W3CDTF">2013-07-03T09:49:26Z</dcterms:modified>
  <cp:revision>299</cp:revision>
  <dc:subject/>
  <dc:title>Corpus Linguistics</dc:title>
</cp:coreProperties>
</file>