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0C93E-AA0E-44AE-A10F-48A3C949C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AEF4-C0F8-473E-A766-DA007E30EE4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E3B-2359-4F7B-AA2D-855EFBAA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E7DA-65AF-44E7-BC5A-A8BE5789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7CA-DFA4-4ED7-8B64-3A23F9C8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8C8-BE22-48E1-830C-9CABD8B1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74D-18E6-4A46-9A15-F371DD22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1B73-5781-49E1-9E78-F122BACD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A0BE-5512-4E8B-8E09-6E93FA84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9FB8-0202-492F-BC53-1168C99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1FF7-8BAF-4E11-A555-4D75E73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5719-B75A-46E9-AFD1-AAE7DB9E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1D29-62FB-4921-8A13-3BC9622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5F8-7037-4752-BE83-8A6D92E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2C9-922E-40EB-87E4-4A2023D9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A98-A483-41B4-A478-FD6B4DEC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64FB-0622-4184-81C3-7B0B693A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29B2-F7A4-4EA4-A686-0A819CBE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7BE-80F3-4BEE-B0BF-8DC13F3F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1F6-870B-474A-9C39-12C5DED5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E96-F8C7-4EC0-A0DA-87D6980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0B1-1724-4CC1-9814-45EA9340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AAC-3406-4F2C-8043-D15BBE1F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636-88C8-4F42-927A-2B29B96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3E4-1ADC-4D61-9FED-309A0A3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AA5-B91A-4250-B670-A7806A0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8A2-B2E6-4778-84F3-3FF7A7EE92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58BA-16E4-470D-B696-7F7ACBC45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662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Tahoma"/>
              </a:rPr>
              <a:t>Corpus Linguistic Development with reference to Camero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Prof. Dr Daniel A. Nkemle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Department of Englis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Ecole Normale Supérie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University of Yaounde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096D-2E4A-410C-9F60-CB7C766BF4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: Criticism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3320" y="2381400"/>
            <a:ext cx="75121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urther practical criticism: (Abercrombie: 196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ime-consuming, prone to err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navailable data processing 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Linguistics largely abando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62C-C407-4F52-960A-D7F3D3EA80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, con‘t: Reviv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etween 1950s and 1980s: minority of linguists continued working on corpus-based work (Quirk: SEU, Francis &amp; Kucera: Brown corpus, Svartik: London-Lund corp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uter: major support for 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uterized corpus: increase in computing facilities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revival of 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27B-E32E-4F5B-A9E0-837C49421F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3. Uses of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speech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lexical stu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 in the teaching of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ortance du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empiric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” statements on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4412-1436-4C17-8442-9411E7A414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: Corpora in Speech Research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93320" y="2460600"/>
            <a:ext cx="75121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mportance of spoken corpu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oad samples of speech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generalizations about spoken langu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s of naturalistic speech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reflection of language in real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A7A4-BC9A-4892-B410-FE482150A2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I: Corpora in Lexical Stud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Quicker production and revision of diction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ore complete and precise defin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Keep informed about new words, changing mean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all up word combinations, co-occurings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A14-0436-40ED-9A04-2B32D54035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Uses III: Corpora in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Real life language data for textbook 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ritical look at existing language teaching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273-BD7D-4E9B-851F-D01360AA79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4. Some Existing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45680" y="2949120"/>
            <a:ext cx="726444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own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ancaster-Oslo/Bergen corpus (LO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ondon-Lund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nternational Corpus of English (I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ritish National Corpus (BN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CE-EAST Africa (ICE-E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of Cameroon English (C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CE-CAM,on-go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8A9-6211-448E-8D1D-E240F0EFB8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Brown Corp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45680" y="2743200"/>
            <a:ext cx="726444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ublished in 1964: Brown University Standard Corpus of Present-Day American English by Francis/Ku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čera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rst computer corpus compiled for linguist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bout 1,000,000 words “representative“ of American English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500 samples of each 2,00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08D-74CC-4C21-BE6E-5E4DEBA053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Lancaster-Oslo/Bergen corpus (LOB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3320" y="2460240"/>
            <a:ext cx="751212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70-197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of written British Englis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University of Lancaster/University of Oslo/Norwegian Computing Centre for Humanities at Ber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500 texts of 2,000 words e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2D6-BE0F-44A5-923B-C547A1C0D4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British National Corp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45680" y="2949480"/>
            <a:ext cx="726444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00,000,000 words from British English from the later part of 20th century, both spoken (10%) and written (90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arried out and managed by the BNC Consort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91-199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s of about 45,00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8D9-379A-4C50-B90B-509C05FFA1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finition/Nature: Corpus Linguistics,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 Development of Corpus Linguistics: History, Crit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 Some uses of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 Some existing Corp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. The Cameroon Experience in corpus resea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. Achievements: publications, students’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7. Conclusion: International collaborative eff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0ADE-BBE9-47FA-9EA8-775597F28D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5. Cameroon Experience: Corpus of Cameroon English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bout 1,000,000 words (all writte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992-1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agged, but not all ver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eveloper(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of. Dr Daniel Nkemleke &amp; Colle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Group of research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Hosted in Yaounde and Tu-Chemnit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unding agencies: British Council + AvH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CDBB-9DD1-44F9-82EA-6FDBCDC00A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Cameroon Experience: ICE-CAM, on-go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Started in Feb.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Funded by Av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Developer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Prof. Dr Daniel Nkemlek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Group of research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Written (400,000 word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On-going collection of texts for a sample of Cameroon Spoken Corpus (estimate: 600,000 wor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C3BD-CD9C-4267-9F7C-E3339FD5EA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mposition of ICE-CAM</a:t>
            </a:r>
            <a:br>
              <a:rPr sz="3600"/>
            </a:b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(written, 400,000 words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2057400"/>
          <a:ext cx="5589720" cy="3309840"/>
        </p:xfrm>
        <a:graphic>
          <a:graphicData uri="http://schemas.openxmlformats.org/drawingml/2006/table">
            <a:tbl>
              <a:tblPr/>
              <a:tblGrid>
                <a:gridCol w="2587320"/>
                <a:gridCol w="2786760"/>
                <a:gridCol w="2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’ Ess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ills and Hobb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amination scri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ito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Let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v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siness Let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ities 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ities 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Scienc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Science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tural Science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tural Science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ology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cadem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chnology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opul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ss Repor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ministrative wri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E3E-A9C7-450B-B520-8142B8C88C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mposition of ICE-CAM</a:t>
            </a:r>
            <a:br>
              <a:rPr sz="3600"/>
            </a:b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(spoken, 600,000 words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05120" y="1905120"/>
          <a:ext cx="4876560" cy="437508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versations    (Private)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adcast Interviews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gal cross Examination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 Lessons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Discussion (Publi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entarie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scripted Speech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monstration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gal presentations (Un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New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adcast Talk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broadcast Talks (Scripte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ACE-070B-45FD-B38C-B6BA7CE32A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tudents‘ contribution: Smaller specialized corpor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ssertations (BIS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Tayuh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Mafor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ditorials (Fuh Che, 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udents‘ Essays (Pone 20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B5A-E696-4F1C-9520-4A22FAF03E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6. Achievements: Some publications on the C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Milestones in the corpus of Cameroon English: research possibilities in an ESL Context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nnals of the Faculty of Arts, Letters &amp; Social Sciences.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Special edition: Festschrift in honour of Professor Paul Mbangwana University of Yaounde I Press, 173-18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Modality in novice academic writing: the case of African and German university student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Research in English &amp; Applied Linguistics REAL 4: English Projects in Teaching and Research in Central Europ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Göttingen: Cuvillier, 43-64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6EF-0614-43BA-88AC-747941EFA0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Frequency and variety of if-constructions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English Studies and Language Teaching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lzen: University of West Bohemia, 27-4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“Please-request in Cameroonian and Kenyan private (social) letter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Discourse Interaction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(2). Brno: Masaryk University, 63-74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7) “Frequency and use of modals in Cameroon English and application to language education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ndian Journal of Applied Linguistic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33, no. 1, 87-10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EA8-C380-4A1D-BB43-C450DC7A91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5) “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Must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Shoul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rdic Journal for African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14 no. 1, 27-6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4) “Context and function of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ee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e abl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to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ndian Journal of Applied Linguistic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12 no. 2, 23-34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4) “A corpus-based study of the modal verbs in Cameroonian and British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CASTALIA: Ibadan Journal of Multicultural &amp; Multidisciplinary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no.19, 1-2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EDF-6BDE-4E67-B58F-004287C533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1, with Paul Mbangwana) “The modals of obligation and necessity in Cameroon English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CASTALIA: Ibadan Journal of Multicultural &amp; Multidisciplinary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Vol. 6, 1-1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8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Manual of information to accompany the corpus of Cameroon Englis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Department of English, Chemnitz University of Technology, Germany: 47 pa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98F-9A9F-468E-8DED-2754F1BE26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Some publications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03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 corpus-based study of the modal verbs in Cameroon written Englis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Unpublished PhD thesis. University of Yaounde 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78E-C18C-45F6-A5DE-26F59F793F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:</a:t>
            </a:r>
            <a:br>
              <a:rPr sz="3600"/>
            </a:b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What is Corpus Linguistic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the study of language based on examples of “real life“ language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asis analysis: Listing, Sorting, Counting of Concordances (KWIC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mplex analysis: Processing using complex programs (e.g. Complex Ana, WordSmith To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841-FCC6-4566-A413-C389048603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Forth-coming public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Frequent collocates and major senses of two prepositions in ESL and ENL corpora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nguage Forum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 .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New Delh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Variation in written discourse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omparing Cameroonian, East-African and British English on the basis of text corpora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Discourse and Text Studi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 University of West Bohem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F9B-1207-4426-B656-F0492B8B22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Forth-coming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) “The expression of modality in Cameroon English”. In: Achimbe, E. (ed.)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Approaches to Cameroon English: Features, Structure, and New Perspective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for the series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Varieties of English around the World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John Benjamins) Edited by Edgar W. Schneid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 in press, with Josef Schmied). “Prepositions in Cameroon and Kenyan English: corpus-linguistic comparisons of simplification and expressivity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World Englishes: Problems-Properties-Prospect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to be published by John Benjamin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631D-2461-4D19-9AE8-5D37C622CB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orth-coming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2010, with Josef Schmied). “Reference, coherence and complexity in students’ academic writing: examples from Cameroon and East-Africa corpus”.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agmatics, Language and Literature: A Festschrift for Efurisibina Adegbija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796-6CAA-4C1C-AA20-2BA6C5CE39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rpus-based research supervised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Semantics and Syntax of Syndetic Coordination in the Corpus of Cameroon English”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200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odality in Students’ Dissertations: A Corpus-based Approach”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Expression of Stance in Newspaper Editorials”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njunction Resources in Students’ Dissertation: A Corpus-based approac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200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E58-0228-4AF6-B3A0-FCE2A0426A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rpus-based research supervised,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Linguistic Study of Dissertation Abstracts  (200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 Expression of Stance in Postgraduate Students’ Dissertations in Camero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for 20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Corpus-based Study of Directives in Students’ Essays (for 2010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07B-7726-4DD7-AA68-4C765C4381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7. Conclusion: International collaborative effor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CE affiliated to ICE (International Corpus of English) project, founded in 198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mb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7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stralia, Cameroon, Canada, East Africa (Kenya, Tanzania), Fiji, Ghana, Great Britain, Ireland, Hong Kong, India, New Zealand, Nigeria, Philippines, Singapore, South Africa and the United States of Amer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2B6-0EA4-43CF-8D3E-CAAF338972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Tahoma"/>
              </a:rPr>
              <a:t>Conclusion: International collaborative efforts con’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ng standing links with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Technische Universiät Chemnitz, TU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9 visit Prof Dr Josef Schm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992 visit of 2 Cameroonian academics to TU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6-2008 Avh Grant (Prof Dr Daniel Nkemle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v-Dec, 2008 return visit of a German scientist/colleague to C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302-D831-4B01-847E-14759B1F24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2312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45680" y="2881080"/>
            <a:ext cx="726444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ahoma"/>
              </a:rPr>
              <a:t>THANK YOU FOR LISTENING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35FF-7AEE-449A-B360-B8B587045A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, con‘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584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4 main characteristic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ing and representativenes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nite siz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achine-readable form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tandard refer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4058-F9E4-4FBE-AE0F-7F1DD85105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Sampling &amp; representativenes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3320" y="2541240"/>
            <a:ext cx="75121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Interest in whole variety of Engl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ttempt to construct a “representative“ dad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im: Picture as accurate and reasonable as possible of a language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ampled to maximally represent vari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B2AB-4A2B-4F95-9652-8B435A2E47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Finite siz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ody of finite amount of words, e.g. 1,000,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Figure determined at beginning of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Once grand total is reached, collection stops, no increase in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Tahoma"/>
              </a:rPr>
              <a:t>Exception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onitor corpus: constant addition of tex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.g. London-Lund corpus, Birmingham cor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5461-0B57-479B-A15D-DBFF5C763E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Definition con‘t: Standard referenc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3320" y="2460600"/>
            <a:ext cx="751212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ilent understanding: corpus constitutes a standard 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esupposition: wide availability to other researc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rect comparison of new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CAB-457B-40EF-83F9-8C33D8E825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2. Development: History of Corpus Linguistics</a:t>
            </a:r>
            <a:r>
              <a:rPr b="1" lang="de-DE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95816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Before 1940s/1950s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early corpus linguistics“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corpus-based methodolog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Several studies predating 1950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anguage acquisition: child language (1870s-1920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aries recording child‘s loc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Primitive corp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umsplatzhalter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umboldt "Kolleg" Nov. 19 - 21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Fußzeilenplatzhalter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rof. Dr  Daniel A. Nkemlek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oliennummernplatzhalt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999-A384-42E2-A08A-54F2878AF7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6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aeaea"/>
                </a:solidFill>
                <a:latin typeface="Tahoma"/>
              </a:rPr>
              <a:t>History of Corpus Linguistics : Criticisms</a:t>
            </a:r>
            <a:r>
              <a:rPr b="1" lang="de-DE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3320" y="2541600"/>
            <a:ext cx="751212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homsky‘s theoretical criticis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= a collection of external utterances, thus a poor guide to modelling linguistic compe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Corpus as a source of evidence invalid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8:47:47Z</dcterms:created>
  <dc:creator>Ellen</dc:creator>
  <dc:description/>
  <dc:language>en-US</dc:language>
  <cp:lastModifiedBy>ellGuest</cp:lastModifiedBy>
  <dcterms:modified xsi:type="dcterms:W3CDTF">2013-07-03T09:48:07Z</dcterms:modified>
  <cp:revision>246</cp:revision>
  <dc:subject/>
  <dc:title>Corpus Linguistics</dc:title>
</cp:coreProperties>
</file>