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839DD-B220-4082-8008-19EF6528B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E25AC-1BB0-4D4B-88AB-4627E6DA9C4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77D-7AD3-4B36-9BE5-0158D359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DD5-34C5-4778-8F77-729FA585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FB0-4258-4079-A737-13874BCF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0D6-D4B3-401E-B2FE-8AA639B0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B9ED-BC57-4942-A124-8D1680D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3C1C-0CF1-4B74-9130-2B68F362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E5E4-EC4F-4976-8A72-5176C109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EE0-2CE4-4E5E-A601-2E3CD33A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90D7-A21C-46ED-BECB-D113E3E4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EA3B-A0C8-4574-9C2E-E87563D3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E9BB-D546-4EC3-9671-AD6A315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393-7CC0-4696-8B2A-7122114E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A295-85E3-40A0-B7E3-ED81859D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5484-C176-48B7-B853-BCABD12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139-9578-4D61-80C7-AE8D3FC6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883-388C-4050-9E98-D63ED466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0EB6-3AB2-46C1-8971-B4707620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D1D-1501-4F2D-92C4-D787A36C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0C9-DFEF-46C9-A819-F5AEB649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395-4644-468A-9ACC-B731F56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1B4-A0BF-41DB-8135-A0F26F2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15B-E61E-4AE0-BDA0-5CEE03D1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D28-3C70-45CF-92EC-4A1BB5BF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FED-7B2B-4EC1-AA72-698C0EB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E8FB-D942-4107-A951-F8BB89FFBC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A34F-5304-4814-B711-684B161E5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662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Tahoma"/>
              </a:rPr>
              <a:t>Corpus Linguistic Development with reference to Camero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Prof. Dr Daniel A. Nkemle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Department of Englis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Ecole Normale Supérie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University of Yaounde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A8D7-2648-4254-8D9B-6CCEC4D23B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History of Corpus Linguistics: Criticism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3320" y="2381400"/>
            <a:ext cx="75121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urther practical criticism: (Abercrombie: 196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Time-consuming, prone to err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Unavailable data processing a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Linguistics largely abando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A343-7642-40DE-A117-C3915C32E2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History of Corpus Linguistics, con‘t: Reviv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95816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etween 1950s and 1980s: minority of linguists continued working on corpus-based work (Quirk: SEU, Francis &amp; Kucera: Brown corpus, Svartik: London-Lund corp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mputer: major support for 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mputerized corpus: increase in computing facilities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revival of 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3793-B315-4CEF-8073-144EF8421E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3. Uses of corpor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45680" y="2949480"/>
            <a:ext cx="72644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 in speech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 in lexical stu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 in the teaching of langu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ortance du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empiric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” statements on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699C-22CE-483B-8CC1-AE2264A55F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Uses I: Corpora in Speech Research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93320" y="2460600"/>
            <a:ext cx="75121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mportance of spoken corpu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road samples of speech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generalizations about spoken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amples of naturalistic speech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reflection of language in real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7A61-55D8-4B35-A9F8-9013F25644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Uses II: Corpora in Lexical Stud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45680" y="2949480"/>
            <a:ext cx="72644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Quicker production and revision of diction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ore complete and precise defin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Keep informed about new words, changing mean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all up word combinations, co-occurings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EA2-A063-4975-B8EF-8ABA1D37B6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Uses III: Corpora in Teach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95816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Real life language data for textbook 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ritical look at existing language teaching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F343-3C2C-4C34-B336-4303F9BDF7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4. Some Existing Corpor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45680" y="2949120"/>
            <a:ext cx="726444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rown Cor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Lancaster-Oslo/Bergen corpus (LO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London-Lund cor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nternational Corpus of English (I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ritish National Corpus (BN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CE-EAST Africa (ICE-E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of Cameroon English (C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CE-CAM,on-go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3EEF-DDDF-4B79-B4B4-6D3CCCB5E2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Brown Corp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45680" y="2743200"/>
            <a:ext cx="726444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published in 1964: Brown University Standard Corpus of Present-Day American English by Francis/Ku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čera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irst computer corpus compiled for linguistic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bout 1,000,000 words “representative“ of American English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500 samples of each 2,000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9E29-EF2C-448A-AA6F-3CABC19E6B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Lancaster-Oslo/Bergen corpus (LOB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3320" y="2460240"/>
            <a:ext cx="75121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970-197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of written British Englis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University of Lancaster/University of Oslo/Norwegian Computing Centre for Humanities at Ber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500 texts of 2,000 words e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2246-6CDB-43D3-B298-CD39B0CF875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British National Corp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45680" y="2949480"/>
            <a:ext cx="72644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00,000,000 words from British English from the later part of 20th century, both spoken (10%) and written (9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arried out and managed by the BNC Consort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991-199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amples of about 45,000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CAE6-97C6-4DC0-ACF1-6BEBC98B30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aeaea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finition/Nature: Corpus Linguistics, Corp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Development of Corpus Linguistics: History, Critic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 Some uses of Corp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 Some existing Corp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. The Cameroon Experience in corpus resear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. Achievements: publications, students’ pro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7. Conclusion: International collaborative eff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4EBC-DF69-47F0-AB5B-F3F566ADB0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5. Cameroon Experience: Corpus of Cameroon English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bout 1,000,000 words (all writte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992-1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Tagged, but not all ver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eveloper(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Prof. Dr Daniel Nkemleke &amp; Colleag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Group of research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Hosted in Yaounde and Tu-Chemnit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unding agencies: British Council + AvH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F381-291A-4794-989A-96C1FEE6CC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Cameroon Experience: ICE-CAM, on-go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Started in Feb.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Funded by Av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Developer 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Prof. Dr Daniel Nkemlek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Group of research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Written (400,000 words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On-going collection of texts for a sample of Cameroon Spoken Corpus (estimate: 600,000 wor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D27E-0BF3-43C5-828B-17BD68B071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Composition of ICE-CAM</a:t>
            </a:r>
            <a:br>
              <a:rPr sz="3600"/>
            </a:b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(written, 400,000 words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2057400"/>
          <a:ext cx="5589720" cy="3309840"/>
        </p:xfrm>
        <a:graphic>
          <a:graphicData uri="http://schemas.openxmlformats.org/drawingml/2006/table">
            <a:tbl>
              <a:tblPr/>
              <a:tblGrid>
                <a:gridCol w="2587320"/>
                <a:gridCol w="2786760"/>
                <a:gridCol w="21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s’ Essay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ills and Hobb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amination scri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Let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v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siness Let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ities (Academ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ities (Popul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Science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cadem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Science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opul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tural Science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cadem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tural Science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opul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ology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cadem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ology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opul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ss Repor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ministrative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FF1D-D8AF-4F97-B1EA-65F7430F57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Composition of ICE-CAM</a:t>
            </a:r>
            <a:br>
              <a:rPr sz="3600"/>
            </a:b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(spoken, 600,000 words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05120" y="1905120"/>
          <a:ext cx="4876560" cy="43750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versations    (Private)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adcast Interviews (Publ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gal cross Examination (Publ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Lessons (Publ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adcast Discussion (Publ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entaries (Un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scripted Speech (Un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monstrations (Un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gal presentations (Un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adcast News (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adcast Talks (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broadcast Talks (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8C8-91FF-4E3F-8FC1-6E18B7FAAD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tudents‘ contribution: Smaller specialized corpor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ssertations (BIS 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tudents‘ Essays (Tayuh 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tudents‘ Essays (Mafor 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Editorials (Fuh Che, 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tudents‘ Essays (Pone 20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869D-594D-4D77-98FD-F97CA272AB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6. Achievements: Some publications on the CC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“Milestones in the corpus of Cameroon English: research possibilities in an ESL Context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Annals of the Faculty of Arts, Letters &amp; Social Sciences.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Special edition: Festschrift in honour of Professor Paul Mbangwana University of Yaounde I Press, 173-18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“Modality in novice academic writing: the case of African and German university students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Research in English &amp; Applied Linguistics REAL 4: English Projects in Teaching and Research in Central Europ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Göttingen: Cuvillier, 43-64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DE85-037E-48AD-A305-4BB92F902A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ome publication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“Frequency and variety of if-constructions in Cameroon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English Studies and Language Teaching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lzen: University of West Bohemia, 27-4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“Please-request in Cameroonian and Kenyan private (social) letters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Discourse Interaction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(2). Brno: Masaryk University, 63-74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7) “Frequency and use of modals in Cameroon English and application to language education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ndian Journal of Applied Linguistic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33, no. 1, 87-10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8306-D214-49A5-BB76-411F924D40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ome publication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5) “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Must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Should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in Cameroon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rdic Journal for African Studi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14 no. 1, 27-6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4) “Context and function of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eed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e abl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to in Cameroon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ndian Journal of Applied Linguistic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12 no. 2, 23-34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4) “A corpus-based study of the modal verbs in Cameroonian and British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CASTALIA: Ibadan Journal of Multicultural &amp; Multidisciplinary Studi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no.19, 1-2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06D-A218-4E59-8713-C8736D300D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ome publication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1, with Paul Mbangwana) “The modals of obligation and necessity in Cameroon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CASTALIA: Ibadan Journal of Multicultural &amp; Multidisciplinary Studi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6, 1-1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Manual of information to accompany the corpus of Cameroon Englis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 Department of English, Chemnitz University of Technology, Germany: 47 pa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A61F-84FC-4964-9889-D37BE048B2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ome publication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3)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A corpus-based study of the modal verbs in Cameroon written Englis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 Unpublished PhD thesis. University of Yaounde 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F198-A4E3-4BB2-9E12-E13920C2EE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:</a:t>
            </a:r>
            <a:br>
              <a:rPr sz="3600"/>
            </a:b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What is Corpus Linguistics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the study of language based on examples of “real life“ language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asis analysis: Listing, Sorting, Counting of Concordances (KWI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mplex analysis: Processing using complex programs (e.g. Complex Ana, WordSmith Too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F44-8E47-4217-B068-6A7A6E80C7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Forth-coming publica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 in press) “Frequent collocates and major senses of two prepositions in ESL and ENL corpora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nguage Forum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 .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New Delh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 in press) “Variation in written discourse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omparing Cameroonian, East-African and British English on the basis of text corpora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Discourse and Text Studi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 University of West Bohem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815B-ED92-4EE0-95B6-B1E4E8CDAE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Forth-coming con’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 in press) “The expression of modality in Cameroon English”. In: Achimbe, E. (ed.)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Approaches to Cameroon English: Features, Structure, and New Perspectiv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for the series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Varieties of English around the World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John Benjamins) Edited by Edgar W. Schneide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 in press, with Josef Schmied). “Prepositions in Cameroon and Kenyan English: corpus-linguistic comparisons of simplification and expressivity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World Englishes: Problems-Properties-Prospect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to be published by John Benjami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6EF5-B42E-4046-8A7F-403707A2B0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orth-coming con’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, with Josef Schmied). “Reference, coherence and complexity in students’ academic writing: examples from Cameroon and East-Africa corpus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agmatics, Language and Literature: A Festschrift for Efurisibina Adegbija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7FD-9C2E-4460-9F41-D2008C3192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rpus-based research supervised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Semantics and Syntax of Syndetic Coordination in the Corpus of Cameroon English”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20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odality in Students’ Dissertations: A Corpus-based Approach”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200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Expression of Stance in Newspaper Editorials”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200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junction Resources in Students’ Dissertation: A Corpus-based approac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200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F5E4-651C-4304-8789-675167BAED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rpus-based research supervised, con’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Linguistic Study of Dissertation Abstracts  (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 Expression of Stance in Postgraduate Students’ Dissertations in Cameroo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for 20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Corpus-based Study of Directives in Students’ Essays (for 2010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732B-4DF5-4C8C-989A-64ABD02658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7. Conclusion: International collaborative effor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CE affiliated to ICE (International Corpus of English) project, founded in 198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mb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7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stralia, Cameroon, Canada, East Africa (Kenya, Tanzania), Fiji, Ghana, Great Britain, Ireland, Hong Kong, India, New Zealand, Nigeria, Philippines, Singapore, South Africa and the United States of Americ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A1F5-6EEB-4521-B32F-413335753B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Conclusion: International collaborative efforts con’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ng standing links with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Technische Universiät Chemnitz, TU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99 visit Prof Dr Josef Schm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92 visit of 2 Cameroonian academics to TU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06-2008 Avh Grant (Prof Dr Daniel Nkemlek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v-Dec, 2008 return visit of a German scientist/colleague to C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138E-05BE-4EEC-AAF7-B281F42500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2312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aeaea"/>
                </a:solidFill>
                <a:latin typeface="Tahoma"/>
              </a:rPr>
              <a:t>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45680" y="2881080"/>
            <a:ext cx="726444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ahoma"/>
              </a:rPr>
              <a:t>THANK YOU FOR LISTENING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F1CB-9527-4F60-9DFC-D18A9AD8F3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,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584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4 main characteristic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ampling and representativenes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inite siz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achine-readable form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tandard refer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50BA-0287-4603-B622-4E9EE9C2A6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 con‘t: Sampling &amp; representativenes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3320" y="2541240"/>
            <a:ext cx="75121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nterest in whole variety of Engl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ttempt to construct a “representative“ dada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im: Picture as accurate and reasonable as possible of a language 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ampled to maximally represent var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C5D9-AD08-473D-AFF8-D01B6CA1C8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 con‘t: Finite siz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ody of finite amount of words, e.g. 1,000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igure determined at beginning of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Once grand total is reached, collection stops, no increase in s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Tahoma"/>
              </a:rPr>
              <a:t>Exceptio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onitor corpus: constant addition of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e.g. London-Lund corpus, Birmingham cor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3BBA-B514-4A9A-9BA8-A7643B2B26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 con‘t: Standard referenc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3320" y="2460600"/>
            <a:ext cx="7512120" cy="36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ilent understanding: corpus constitutes a standard re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Presupposition: wide availability to other researc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rect comparison of new res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2F94-A4C4-4B5D-8538-3BD8B4335F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2. Development: History of Corpus Linguistics</a:t>
            </a:r>
            <a:r>
              <a:rPr b="1" lang="de-DE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95816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efore 1940s/1950s: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early corpus linguistics“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corpus-based methodolog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everal studies predating 1950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Language acquisition: child language (1870s-1920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aries recording child‘s loc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Primitive corp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7F54-0883-451E-B93A-A949BDAE66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6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History of Corpus Linguistics : Criticisms</a:t>
            </a:r>
            <a:r>
              <a:rPr b="1" lang="de-DE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3320" y="2541600"/>
            <a:ext cx="75121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homsky‘s theoretical criticis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= a collection of external utterances, thus a poor guide to modelling linguistic compe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as a source of evidence invalid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8:47:47Z</dcterms:created>
  <dc:creator>Ellen</dc:creator>
  <dc:description/>
  <dc:language>en-US</dc:language>
  <cp:lastModifiedBy>ellGuest</cp:lastModifiedBy>
  <dcterms:modified xsi:type="dcterms:W3CDTF">2013-07-03T09:48:07Z</dcterms:modified>
  <cp:revision>246</cp:revision>
  <dc:subject/>
  <dc:title>Corpus Linguistics</dc:title>
</cp:coreProperties>
</file>