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FBCF4-EF28-4C99-9D8E-C4C7E8D2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2921E-7F90-4A6E-BA15-EECBFE24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388B3-6317-487E-BA19-BB434EC58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ADBA6-17F8-4C9B-9E4C-157098E72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A487F-72CE-4A58-AFFD-B6D233F3E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AB8C0-5268-4C23-85AB-2C0710E8D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D2C36-AB8B-4841-B539-04A11E778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198C7-D603-46ED-A766-D0E0ABE14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BDC30-2C65-47A9-8120-45F7579EB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E2C2E-D161-416B-9B66-9D474725D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534C5-02A3-4137-BB84-989AF42E4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D7FCB-3366-4788-8DF0-CDED21FE5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78477-312E-4C7A-8826-639E84C2D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1304B-E5FE-4114-ABF4-D8B15FE1D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5B7CE-0E5C-40B1-878F-09B484474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B83A9-4078-4763-85B6-7C8AA694C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5DBD9-8409-4A7F-B3FD-AD52C4C3E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743A3-04AD-443B-9401-155CB70D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43F7-096D-45E1-BF32-E986F852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BB7A-DADC-4531-A97A-05C69528D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10A9C-DE61-4E9E-A02C-D6EFDC36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D574-9547-4B82-BCD4-4FE1CDFF0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27E4-614D-431D-9905-BFAD1645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ABCF-0E0A-4583-AEC0-53C969E68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D426-963E-461B-A992-6A928002FEA6}"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E5D9-FE50-4895-8380-BA447D5E281E}"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ens.cm/spip.php?article337"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mailto:nkemlekedan@yahoo.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endParaRPr b="0" lang="en-US" sz="3000" spc="-1" strike="noStrike">
              <a:solidFill>
                <a:srgbClr val="000000"/>
              </a:solidFill>
              <a:latin typeface="Arial"/>
            </a:endParaRPr>
          </a:p>
        </p:txBody>
      </p:sp>
      <p:sp>
        <p:nvSpPr>
          <p:cNvPr id="96" name="PlaceHolder 2"/>
          <p:cNvSpPr>
            <a:spLocks noGrp="1"/>
          </p:cNvSpPr>
          <p:nvPr>
            <p:ph type="subTitle"/>
          </p:nvPr>
        </p:nvSpPr>
        <p:spPr>
          <a:xfrm>
            <a:off x="685440" y="762120"/>
            <a:ext cx="8001000" cy="5029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ademic writing practices in Cameroon English, culture and variation</a:t>
            </a:r>
            <a:br>
              <a:rPr sz="3600"/>
            </a:b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niel A. Nkemleke</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kemlekedan@yahoo.com</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iversity of Yaounde I/TU-Chemnitz</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Daniel A. Nkemleke</a:t>
            </a:r>
          </a:p>
        </p:txBody>
      </p:sp>
      <p:sp>
        <p:nvSpPr>
          <p:cNvPr id="5" name="PlaceHolder 4"/>
          <p:cNvSpPr>
            <a:spLocks noGrp="1"/>
          </p:cNvSpPr>
          <p:nvPr>
            <p:ph type="dt" idx="4"/>
          </p:nvPr>
        </p:nvSpPr>
        <p:spPr/>
        <p:txBody>
          <a:bodyPr/>
          <a:p>
            <a:r>
              <a:rPr lang="en-US"/>
              <a:t>TU-Chemnitz, "Culture in Language: Research in Variation, Variation in Research", July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14" name="PlaceHolder 2"/>
          <p:cNvSpPr>
            <a:spLocks noGrp="1"/>
          </p:cNvSpPr>
          <p:nvPr>
            <p:ph/>
          </p:nvPr>
        </p:nvSpPr>
        <p:spPr>
          <a:xfrm>
            <a:off x="761760" y="2057400"/>
            <a:ext cx="7924680" cy="3581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Saxon’ intellectual style (Englis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acterized by avid collection and organization of data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s of all sources, concealing noth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ong on hypothesis generation, but weak on theory forma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gaged in dialogue with their peers, less eliti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olerant of diversity </a:t>
            </a:r>
            <a:r>
              <a:rPr b="0" lang="en-US" sz="1800" spc="-1" strike="noStrike">
                <a:solidFill>
                  <a:srgbClr val="000000"/>
                </a:solidFill>
                <a:latin typeface="Arial"/>
              </a:rPr>
              <a:t>“objective” statements on languag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2F12CBE-B376-48F3-8BA3-2007D4DE8FB7}" type="slidenum">
              <a:t>1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16"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Teutonic’ intellectual style (Germ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fundamental issues of theory formation and deductive reasoning rather data analysis and induc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democratic and strongly elitist, with academic knowledge passing from ‘master’ to ‘apprent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ademic debates centres around the weakness of others’ line of argu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D92E388-D6F0-47F0-AB51-93D37D38F525}" type="slidenum">
              <a:t>1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18" name="PlaceHolder 2"/>
          <p:cNvSpPr>
            <a:spLocks noGrp="1"/>
          </p:cNvSpPr>
          <p:nvPr>
            <p:ph/>
          </p:nvPr>
        </p:nvSpPr>
        <p:spPr>
          <a:xfrm>
            <a:off x="761760" y="1904760"/>
            <a:ext cx="79246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Nipponic’ intellectual style (Japane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alectic way of think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tle or no theory at all being develop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ver pronounce absolute statemen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lying figure of theory is a circ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lerant and democrat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7954911-54E3-4717-AF3F-917F12E9707C}" type="slidenum">
              <a:t>1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0" name="PlaceHolder 2"/>
          <p:cNvSpPr>
            <a:spLocks noGrp="1"/>
          </p:cNvSpPr>
          <p:nvPr>
            <p:ph/>
          </p:nvPr>
        </p:nvSpPr>
        <p:spPr>
          <a:xfrm>
            <a:off x="838080" y="1143000"/>
            <a:ext cx="7958160" cy="495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Gallic’ intellectual style (Fre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ctivity has at its very center theory 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occupied with linguistic artist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uasion is carried by elega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ty and elegance of style are as important as theo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iticism of peers is concealed behind the smoke screen of languag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E5C71610-9496-4F39-89C6-A357A786D3AF}" type="slidenum">
              <a:t>1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2" name="PlaceHolder 2"/>
          <p:cNvSpPr>
            <a:spLocks noGrp="1"/>
          </p:cNvSpPr>
          <p:nvPr>
            <p:ph/>
          </p:nvPr>
        </p:nvSpPr>
        <p:spPr>
          <a:xfrm>
            <a:off x="761760" y="1142640"/>
            <a:ext cx="7924680" cy="487692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ypical question asked when confronted with a proposi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axon</a:t>
            </a:r>
            <a:r>
              <a:rPr b="0" lang="en-GB" sz="1800" spc="-1" strike="noStrike">
                <a:solidFill>
                  <a:srgbClr val="000000"/>
                </a:solidFill>
                <a:latin typeface="Arial"/>
              </a:rPr>
              <a:t>: How do you operationize (US ver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ow do you document it (UK ver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eutonic</a:t>
            </a:r>
            <a:r>
              <a:rPr b="0" lang="en-GB" sz="1800" spc="-1" strike="noStrike">
                <a:solidFill>
                  <a:srgbClr val="000000"/>
                </a:solidFill>
                <a:latin typeface="Arial"/>
              </a:rPr>
              <a:t>: How can you trace this back to basic principl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ie kőnnen Sie das ableit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Nipponic</a:t>
            </a:r>
            <a:r>
              <a:rPr b="0" lang="en-GB" sz="1800" spc="-1" strike="noStrike">
                <a:solidFill>
                  <a:srgbClr val="000000"/>
                </a:solidFill>
                <a:latin typeface="Arial"/>
              </a:rPr>
              <a:t>: Who is your mas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Gallic:</a:t>
            </a:r>
            <a:r>
              <a:rPr b="0" lang="en-GB" sz="1800" spc="-1" strike="noStrike">
                <a:solidFill>
                  <a:srgbClr val="000000"/>
                </a:solidFill>
                <a:latin typeface="Arial"/>
              </a:rPr>
              <a:t> </a:t>
            </a:r>
            <a:r>
              <a:rPr b="0" lang="en-GB" sz="1800" spc="-1" strike="noStrike">
                <a:solidFill>
                  <a:srgbClr val="ff33cc"/>
                </a:solidFill>
                <a:latin typeface="Arial"/>
              </a:rPr>
              <a:t>Can we say this in good Fren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33cc"/>
                </a:solidFill>
                <a:latin typeface="Arial"/>
              </a:rPr>
              <a:t>(“Peut-on dire cela en bon Françai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E7390A70-984D-4BCB-95D3-CE8771193A23}" type="slidenum">
              <a:t>1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looks like a Gallic Style he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133720" y="3276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6" name=""/>
          <p:cNvGraphicFramePr/>
          <p:nvPr/>
        </p:nvGraphicFramePr>
        <p:xfrm>
          <a:off x="4648320" y="990720"/>
          <a:ext cx="4038480" cy="5029200"/>
        </p:xfrm>
        <a:graphic>
          <a:graphicData uri="http://schemas.openxmlformats.org/drawingml/2006/table">
            <a:tbl>
              <a:tblPr/>
              <a:tblGrid>
                <a:gridCol w="4038480"/>
              </a:tblGrid>
              <a:tr h="5029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ea typeface="Arial"/>
                        </a:rPr>
                        <a:t>Application for a job</a:t>
                      </a:r>
                      <a:endParaRPr b="0" lang="en-US" sz="20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t has been so immense for me and previlegious [sic] to drop to you this note, asking for a job opportunity. I wish to table before you that I would like you to employ me as a driver in your societ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r>
                        <a:rPr b="1" lang="en-GB" sz="1400" spc="-1" strike="noStrike">
                          <a:solidFill>
                            <a:srgbClr val="000000"/>
                          </a:solidFill>
                          <a:latin typeface="Arial"/>
                          <a:ea typeface="Arial"/>
                        </a:rPr>
                        <a:t>Sir, my curriculum vitae behind this paper will brief you on my driving experiences as well as educational qualifications. Even though driving is not my priority you could still employ me as a cleaner, day watch, yard boy, houseboy, or anything you feel you could do to help if there is no driving opportunity there may be other jobs that you will be convinced could still d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r>
                        <a:rPr b="1" lang="en-GB" sz="1400" spc="-1" strike="noStrike">
                          <a:solidFill>
                            <a:srgbClr val="000000"/>
                          </a:solidFill>
                          <a:latin typeface="Arial"/>
                          <a:ea typeface="Arial"/>
                        </a:rPr>
                        <a:t>I am waiting to have a positive response from you S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hank yo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Yours Sincerely</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36F5E1A6-850F-4A75-B333-6AE58C9AD878}" type="slidenum">
              <a:t>1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looks like a Gallic Style here?</a:t>
            </a:r>
            <a:endParaRPr b="0" lang="en-US" sz="1800" spc="-1" strike="noStrike">
              <a:solidFill>
                <a:srgbClr val="000000"/>
              </a:solidFill>
              <a:latin typeface="Arial"/>
            </a:endParaRPr>
          </a:p>
        </p:txBody>
      </p:sp>
      <p:sp>
        <p:nvSpPr>
          <p:cNvPr id="129" name=""/>
          <p:cNvSpPr/>
          <p:nvPr/>
        </p:nvSpPr>
        <p:spPr>
          <a:xfrm>
            <a:off x="2651040" y="2971800"/>
            <a:ext cx="451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0" name=""/>
          <p:cNvGraphicFramePr/>
          <p:nvPr/>
        </p:nvGraphicFramePr>
        <p:xfrm>
          <a:off x="4648320" y="1219320"/>
          <a:ext cx="4038480" cy="4932360"/>
        </p:xfrm>
        <a:graphic>
          <a:graphicData uri="http://schemas.openxmlformats.org/drawingml/2006/table">
            <a:tbl>
              <a:tblPr/>
              <a:tblGrid>
                <a:gridCol w="4038480"/>
              </a:tblGrid>
              <a:tr h="4957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Arial"/>
                        </a:rPr>
                        <a:t>Application for a holiday jo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 have the honour and respect to come to you to apply for help. Please having obtained my Ordinary and Advanced Level certificates but now presently in the house without going to the university because I was not given the opportunity by my parents for the reason that they had no mone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 would be very grateful if you would kindly offer me a job in your company so as to enable me earn some monies that I may go to the universit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ir, your kind consideration would be highly appreciat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Your humbly servan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BA0EDE0F-9AA3-451F-A2EA-7014A6B1896F}" type="slidenum">
              <a:t>1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32" name="PlaceHolder 2"/>
          <p:cNvSpPr>
            <a:spLocks noGrp="1"/>
          </p:cNvSpPr>
          <p:nvPr>
            <p:ph/>
          </p:nvPr>
        </p:nvSpPr>
        <p:spPr>
          <a:xfrm>
            <a:off x="761760" y="1142640"/>
            <a:ext cx="792468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Kaplan’s Cultural Thought Patterns (1966/19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plan (1966/1980) differences in paragraph structur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1219320" y="3048120"/>
          <a:ext cx="6400800" cy="2404440"/>
        </p:xfrm>
        <a:graphic>
          <a:graphicData uri="http://schemas.openxmlformats.org/drawingml/2006/table">
            <a:tbl>
              <a:tblPr/>
              <a:tblGrid>
                <a:gridCol w="1279440"/>
                <a:gridCol w="1281240"/>
                <a:gridCol w="1279440"/>
                <a:gridCol w="1280880"/>
                <a:gridCol w="1279800"/>
              </a:tblGrid>
              <a:tr h="43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Englis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Semiti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Orient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Roman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Russi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p:nvPr/>
        </p:nvSpPr>
        <p:spPr>
          <a:xfrm>
            <a:off x="1676520" y="4038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19520" y="4114800"/>
            <a:ext cx="742680" cy="517680"/>
          </a:xfrm>
          <a:custGeom>
            <a:avLst/>
            <a:gdLst/>
            <a:ahLst/>
            <a:rect l="l" t="t" r="r" b="b"/>
            <a:pathLst>
              <a:path w="1170" h="813">
                <a:moveTo>
                  <a:pt x="105" y="0"/>
                </a:moveTo>
                <a:cubicBezTo>
                  <a:pt x="180" y="5"/>
                  <a:pt x="256" y="4"/>
                  <a:pt x="330" y="15"/>
                </a:cubicBezTo>
                <a:cubicBezTo>
                  <a:pt x="412" y="27"/>
                  <a:pt x="471" y="68"/>
                  <a:pt x="555" y="75"/>
                </a:cubicBezTo>
                <a:cubicBezTo>
                  <a:pt x="645" y="82"/>
                  <a:pt x="735" y="85"/>
                  <a:pt x="825" y="90"/>
                </a:cubicBezTo>
                <a:cubicBezTo>
                  <a:pt x="712" y="128"/>
                  <a:pt x="847" y="72"/>
                  <a:pt x="750" y="150"/>
                </a:cubicBezTo>
                <a:cubicBezTo>
                  <a:pt x="740" y="158"/>
                  <a:pt x="649" y="179"/>
                  <a:pt x="645" y="180"/>
                </a:cubicBezTo>
                <a:cubicBezTo>
                  <a:pt x="499" y="278"/>
                  <a:pt x="239" y="360"/>
                  <a:pt x="60" y="390"/>
                </a:cubicBezTo>
                <a:cubicBezTo>
                  <a:pt x="355" y="412"/>
                  <a:pt x="636" y="457"/>
                  <a:pt x="930" y="480"/>
                </a:cubicBezTo>
                <a:cubicBezTo>
                  <a:pt x="760" y="508"/>
                  <a:pt x="613" y="530"/>
                  <a:pt x="435" y="540"/>
                </a:cubicBezTo>
                <a:cubicBezTo>
                  <a:pt x="333" y="557"/>
                  <a:pt x="234" y="582"/>
                  <a:pt x="135" y="615"/>
                </a:cubicBezTo>
                <a:cubicBezTo>
                  <a:pt x="105" y="625"/>
                  <a:pt x="75" y="635"/>
                  <a:pt x="45" y="645"/>
                </a:cubicBezTo>
                <a:cubicBezTo>
                  <a:pt x="30" y="650"/>
                  <a:pt x="0" y="660"/>
                  <a:pt x="0" y="660"/>
                </a:cubicBezTo>
                <a:cubicBezTo>
                  <a:pt x="55" y="742"/>
                  <a:pt x="150" y="715"/>
                  <a:pt x="240" y="735"/>
                </a:cubicBezTo>
                <a:cubicBezTo>
                  <a:pt x="448" y="781"/>
                  <a:pt x="603" y="805"/>
                  <a:pt x="825" y="810"/>
                </a:cubicBezTo>
                <a:cubicBezTo>
                  <a:pt x="940" y="813"/>
                  <a:pt x="1055" y="810"/>
                  <a:pt x="1170" y="81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 name=""/>
          <p:cNvSpPr/>
          <p:nvPr/>
        </p:nvSpPr>
        <p:spPr>
          <a:xfrm>
            <a:off x="3886200" y="4038480"/>
            <a:ext cx="766800" cy="685800"/>
          </a:xfrm>
          <a:custGeom>
            <a:avLst/>
            <a:gdLst/>
            <a:ahLst/>
            <a:rect l="l" t="t" r="r" b="b"/>
            <a:pathLst>
              <a:path w="1341" h="1485">
                <a:moveTo>
                  <a:pt x="891" y="765"/>
                </a:moveTo>
                <a:cubicBezTo>
                  <a:pt x="886" y="750"/>
                  <a:pt x="884" y="734"/>
                  <a:pt x="876" y="720"/>
                </a:cubicBezTo>
                <a:cubicBezTo>
                  <a:pt x="858" y="688"/>
                  <a:pt x="816" y="630"/>
                  <a:pt x="816" y="630"/>
                </a:cubicBezTo>
                <a:cubicBezTo>
                  <a:pt x="776" y="635"/>
                  <a:pt x="734" y="631"/>
                  <a:pt x="696" y="645"/>
                </a:cubicBezTo>
                <a:cubicBezTo>
                  <a:pt x="662" y="657"/>
                  <a:pt x="636" y="685"/>
                  <a:pt x="606" y="705"/>
                </a:cubicBezTo>
                <a:cubicBezTo>
                  <a:pt x="591" y="715"/>
                  <a:pt x="561" y="735"/>
                  <a:pt x="561" y="735"/>
                </a:cubicBezTo>
                <a:cubicBezTo>
                  <a:pt x="551" y="750"/>
                  <a:pt x="538" y="764"/>
                  <a:pt x="531" y="780"/>
                </a:cubicBezTo>
                <a:cubicBezTo>
                  <a:pt x="518" y="809"/>
                  <a:pt x="501" y="870"/>
                  <a:pt x="501" y="870"/>
                </a:cubicBezTo>
                <a:cubicBezTo>
                  <a:pt x="513" y="940"/>
                  <a:pt x="523" y="1050"/>
                  <a:pt x="591" y="1095"/>
                </a:cubicBezTo>
                <a:cubicBezTo>
                  <a:pt x="621" y="1115"/>
                  <a:pt x="651" y="1135"/>
                  <a:pt x="681" y="1155"/>
                </a:cubicBezTo>
                <a:cubicBezTo>
                  <a:pt x="696" y="1165"/>
                  <a:pt x="726" y="1185"/>
                  <a:pt x="726" y="1185"/>
                </a:cubicBezTo>
                <a:cubicBezTo>
                  <a:pt x="771" y="1180"/>
                  <a:pt x="818" y="1184"/>
                  <a:pt x="861" y="1170"/>
                </a:cubicBezTo>
                <a:cubicBezTo>
                  <a:pt x="895" y="1159"/>
                  <a:pt x="921" y="1130"/>
                  <a:pt x="951" y="1110"/>
                </a:cubicBezTo>
                <a:cubicBezTo>
                  <a:pt x="966" y="1100"/>
                  <a:pt x="996" y="1080"/>
                  <a:pt x="996" y="1080"/>
                </a:cubicBezTo>
                <a:cubicBezTo>
                  <a:pt x="1065" y="977"/>
                  <a:pt x="1045" y="1024"/>
                  <a:pt x="1071" y="945"/>
                </a:cubicBezTo>
                <a:cubicBezTo>
                  <a:pt x="1066" y="855"/>
                  <a:pt x="1078" y="592"/>
                  <a:pt x="981" y="495"/>
                </a:cubicBezTo>
                <a:cubicBezTo>
                  <a:pt x="945" y="459"/>
                  <a:pt x="891" y="450"/>
                  <a:pt x="846" y="435"/>
                </a:cubicBezTo>
                <a:cubicBezTo>
                  <a:pt x="831" y="430"/>
                  <a:pt x="816" y="425"/>
                  <a:pt x="801" y="420"/>
                </a:cubicBezTo>
                <a:cubicBezTo>
                  <a:pt x="786" y="415"/>
                  <a:pt x="756" y="405"/>
                  <a:pt x="756" y="405"/>
                </a:cubicBezTo>
                <a:cubicBezTo>
                  <a:pt x="646" y="410"/>
                  <a:pt x="536" y="412"/>
                  <a:pt x="426" y="420"/>
                </a:cubicBezTo>
                <a:cubicBezTo>
                  <a:pt x="401" y="422"/>
                  <a:pt x="376" y="428"/>
                  <a:pt x="351" y="435"/>
                </a:cubicBezTo>
                <a:cubicBezTo>
                  <a:pt x="320" y="443"/>
                  <a:pt x="261" y="465"/>
                  <a:pt x="261" y="465"/>
                </a:cubicBezTo>
                <a:cubicBezTo>
                  <a:pt x="241" y="495"/>
                  <a:pt x="221" y="525"/>
                  <a:pt x="201" y="555"/>
                </a:cubicBezTo>
                <a:cubicBezTo>
                  <a:pt x="183" y="581"/>
                  <a:pt x="171" y="645"/>
                  <a:pt x="171" y="645"/>
                </a:cubicBezTo>
                <a:cubicBezTo>
                  <a:pt x="176" y="740"/>
                  <a:pt x="177" y="835"/>
                  <a:pt x="186" y="930"/>
                </a:cubicBezTo>
                <a:cubicBezTo>
                  <a:pt x="198" y="1052"/>
                  <a:pt x="223" y="1205"/>
                  <a:pt x="306" y="1305"/>
                </a:cubicBezTo>
                <a:cubicBezTo>
                  <a:pt x="417" y="1438"/>
                  <a:pt x="595" y="1467"/>
                  <a:pt x="756" y="1485"/>
                </a:cubicBezTo>
                <a:cubicBezTo>
                  <a:pt x="824" y="1474"/>
                  <a:pt x="968" y="1454"/>
                  <a:pt x="1026" y="1425"/>
                </a:cubicBezTo>
                <a:cubicBezTo>
                  <a:pt x="1142" y="1367"/>
                  <a:pt x="1003" y="1418"/>
                  <a:pt x="1116" y="1380"/>
                </a:cubicBezTo>
                <a:cubicBezTo>
                  <a:pt x="1131" y="1365"/>
                  <a:pt x="1145" y="1349"/>
                  <a:pt x="1161" y="1335"/>
                </a:cubicBezTo>
                <a:cubicBezTo>
                  <a:pt x="1175" y="1323"/>
                  <a:pt x="1195" y="1319"/>
                  <a:pt x="1206" y="1305"/>
                </a:cubicBezTo>
                <a:cubicBezTo>
                  <a:pt x="1216" y="1293"/>
                  <a:pt x="1212" y="1273"/>
                  <a:pt x="1221" y="1260"/>
                </a:cubicBezTo>
                <a:cubicBezTo>
                  <a:pt x="1233" y="1242"/>
                  <a:pt x="1251" y="1230"/>
                  <a:pt x="1266" y="1215"/>
                </a:cubicBezTo>
                <a:cubicBezTo>
                  <a:pt x="1271" y="1200"/>
                  <a:pt x="1274" y="1184"/>
                  <a:pt x="1281" y="1170"/>
                </a:cubicBezTo>
                <a:cubicBezTo>
                  <a:pt x="1289" y="1154"/>
                  <a:pt x="1305" y="1142"/>
                  <a:pt x="1311" y="1125"/>
                </a:cubicBezTo>
                <a:cubicBezTo>
                  <a:pt x="1325" y="1086"/>
                  <a:pt x="1341" y="1005"/>
                  <a:pt x="1341" y="1005"/>
                </a:cubicBezTo>
                <a:cubicBezTo>
                  <a:pt x="1336" y="905"/>
                  <a:pt x="1335" y="805"/>
                  <a:pt x="1326" y="705"/>
                </a:cubicBezTo>
                <a:cubicBezTo>
                  <a:pt x="1314" y="562"/>
                  <a:pt x="1213" y="427"/>
                  <a:pt x="1116" y="330"/>
                </a:cubicBezTo>
                <a:cubicBezTo>
                  <a:pt x="1087" y="242"/>
                  <a:pt x="1124" y="323"/>
                  <a:pt x="1056" y="255"/>
                </a:cubicBezTo>
                <a:cubicBezTo>
                  <a:pt x="1043" y="242"/>
                  <a:pt x="1040" y="222"/>
                  <a:pt x="1026" y="210"/>
                </a:cubicBezTo>
                <a:cubicBezTo>
                  <a:pt x="999" y="186"/>
                  <a:pt x="966" y="170"/>
                  <a:pt x="936" y="150"/>
                </a:cubicBezTo>
                <a:cubicBezTo>
                  <a:pt x="891" y="120"/>
                  <a:pt x="846" y="90"/>
                  <a:pt x="801" y="60"/>
                </a:cubicBezTo>
                <a:cubicBezTo>
                  <a:pt x="742" y="21"/>
                  <a:pt x="628" y="10"/>
                  <a:pt x="561" y="0"/>
                </a:cubicBezTo>
                <a:cubicBezTo>
                  <a:pt x="456" y="5"/>
                  <a:pt x="351" y="7"/>
                  <a:pt x="246" y="15"/>
                </a:cubicBezTo>
                <a:cubicBezTo>
                  <a:pt x="225" y="17"/>
                  <a:pt x="206" y="24"/>
                  <a:pt x="186" y="30"/>
                </a:cubicBezTo>
                <a:cubicBezTo>
                  <a:pt x="156" y="39"/>
                  <a:pt x="96" y="60"/>
                  <a:pt x="96" y="60"/>
                </a:cubicBezTo>
                <a:cubicBezTo>
                  <a:pt x="0" y="156"/>
                  <a:pt x="6" y="174"/>
                  <a:pt x="6" y="315"/>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 name=""/>
          <p:cNvSpPr/>
          <p:nvPr/>
        </p:nvSpPr>
        <p:spPr>
          <a:xfrm>
            <a:off x="5410080" y="4038480"/>
            <a:ext cx="542880" cy="685800"/>
          </a:xfrm>
          <a:custGeom>
            <a:avLst/>
            <a:gdLst/>
            <a:ahLst/>
            <a:rect l="l" t="t" r="r" b="b"/>
            <a:pathLst>
              <a:path w="855" h="1455">
                <a:moveTo>
                  <a:pt x="75" y="0"/>
                </a:moveTo>
                <a:cubicBezTo>
                  <a:pt x="80" y="105"/>
                  <a:pt x="68" y="212"/>
                  <a:pt x="90" y="315"/>
                </a:cubicBezTo>
                <a:cubicBezTo>
                  <a:pt x="95" y="337"/>
                  <a:pt x="129" y="337"/>
                  <a:pt x="150" y="345"/>
                </a:cubicBezTo>
                <a:cubicBezTo>
                  <a:pt x="179" y="357"/>
                  <a:pt x="210" y="365"/>
                  <a:pt x="240" y="375"/>
                </a:cubicBezTo>
                <a:cubicBezTo>
                  <a:pt x="318" y="401"/>
                  <a:pt x="386" y="445"/>
                  <a:pt x="465" y="465"/>
                </a:cubicBezTo>
                <a:cubicBezTo>
                  <a:pt x="530" y="481"/>
                  <a:pt x="596" y="489"/>
                  <a:pt x="660" y="510"/>
                </a:cubicBezTo>
                <a:cubicBezTo>
                  <a:pt x="539" y="591"/>
                  <a:pt x="471" y="628"/>
                  <a:pt x="330" y="675"/>
                </a:cubicBezTo>
                <a:cubicBezTo>
                  <a:pt x="313" y="681"/>
                  <a:pt x="302" y="698"/>
                  <a:pt x="285" y="705"/>
                </a:cubicBezTo>
                <a:cubicBezTo>
                  <a:pt x="266" y="713"/>
                  <a:pt x="245" y="715"/>
                  <a:pt x="225" y="720"/>
                </a:cubicBezTo>
                <a:cubicBezTo>
                  <a:pt x="154" y="768"/>
                  <a:pt x="197" y="744"/>
                  <a:pt x="90" y="780"/>
                </a:cubicBezTo>
                <a:cubicBezTo>
                  <a:pt x="75" y="785"/>
                  <a:pt x="60" y="790"/>
                  <a:pt x="45" y="795"/>
                </a:cubicBezTo>
                <a:cubicBezTo>
                  <a:pt x="30" y="800"/>
                  <a:pt x="0" y="810"/>
                  <a:pt x="0" y="810"/>
                </a:cubicBezTo>
                <a:cubicBezTo>
                  <a:pt x="10" y="825"/>
                  <a:pt x="15" y="845"/>
                  <a:pt x="30" y="855"/>
                </a:cubicBezTo>
                <a:cubicBezTo>
                  <a:pt x="47" y="866"/>
                  <a:pt x="71" y="862"/>
                  <a:pt x="90" y="870"/>
                </a:cubicBezTo>
                <a:cubicBezTo>
                  <a:pt x="107" y="877"/>
                  <a:pt x="119" y="893"/>
                  <a:pt x="135" y="900"/>
                </a:cubicBezTo>
                <a:cubicBezTo>
                  <a:pt x="164" y="913"/>
                  <a:pt x="195" y="920"/>
                  <a:pt x="225" y="930"/>
                </a:cubicBezTo>
                <a:cubicBezTo>
                  <a:pt x="288" y="951"/>
                  <a:pt x="340" y="959"/>
                  <a:pt x="405" y="975"/>
                </a:cubicBezTo>
                <a:cubicBezTo>
                  <a:pt x="405" y="975"/>
                  <a:pt x="517" y="1012"/>
                  <a:pt x="540" y="1020"/>
                </a:cubicBezTo>
                <a:cubicBezTo>
                  <a:pt x="581" y="1034"/>
                  <a:pt x="706" y="1046"/>
                  <a:pt x="735" y="1050"/>
                </a:cubicBezTo>
                <a:cubicBezTo>
                  <a:pt x="765" y="1060"/>
                  <a:pt x="822" y="1049"/>
                  <a:pt x="825" y="1080"/>
                </a:cubicBezTo>
                <a:cubicBezTo>
                  <a:pt x="837" y="1208"/>
                  <a:pt x="855" y="1327"/>
                  <a:pt x="855" y="145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705720" y="3962520"/>
            <a:ext cx="542880" cy="761760"/>
          </a:xfrm>
          <a:custGeom>
            <a:avLst/>
            <a:gdLst/>
            <a:ahLst/>
            <a:rect l="l" t="t" r="r" b="b"/>
            <a:pathLst>
              <a:path w="856" h="1620">
                <a:moveTo>
                  <a:pt x="356" y="0"/>
                </a:moveTo>
                <a:cubicBezTo>
                  <a:pt x="394" y="114"/>
                  <a:pt x="386" y="106"/>
                  <a:pt x="356" y="225"/>
                </a:cubicBezTo>
                <a:cubicBezTo>
                  <a:pt x="361" y="270"/>
                  <a:pt x="347" y="322"/>
                  <a:pt x="371" y="360"/>
                </a:cubicBezTo>
                <a:cubicBezTo>
                  <a:pt x="388" y="387"/>
                  <a:pt x="429" y="388"/>
                  <a:pt x="461" y="390"/>
                </a:cubicBezTo>
                <a:cubicBezTo>
                  <a:pt x="531" y="395"/>
                  <a:pt x="601" y="400"/>
                  <a:pt x="671" y="405"/>
                </a:cubicBezTo>
                <a:cubicBezTo>
                  <a:pt x="721" y="415"/>
                  <a:pt x="771" y="425"/>
                  <a:pt x="821" y="435"/>
                </a:cubicBezTo>
                <a:cubicBezTo>
                  <a:pt x="856" y="442"/>
                  <a:pt x="761" y="475"/>
                  <a:pt x="731" y="495"/>
                </a:cubicBezTo>
                <a:cubicBezTo>
                  <a:pt x="713" y="507"/>
                  <a:pt x="703" y="527"/>
                  <a:pt x="686" y="540"/>
                </a:cubicBezTo>
                <a:cubicBezTo>
                  <a:pt x="658" y="562"/>
                  <a:pt x="626" y="580"/>
                  <a:pt x="596" y="600"/>
                </a:cubicBezTo>
                <a:cubicBezTo>
                  <a:pt x="581" y="610"/>
                  <a:pt x="566" y="620"/>
                  <a:pt x="551" y="630"/>
                </a:cubicBezTo>
                <a:cubicBezTo>
                  <a:pt x="536" y="640"/>
                  <a:pt x="506" y="660"/>
                  <a:pt x="506" y="660"/>
                </a:cubicBezTo>
                <a:cubicBezTo>
                  <a:pt x="420" y="789"/>
                  <a:pt x="535" y="637"/>
                  <a:pt x="431" y="720"/>
                </a:cubicBezTo>
                <a:cubicBezTo>
                  <a:pt x="334" y="798"/>
                  <a:pt x="469" y="742"/>
                  <a:pt x="356" y="780"/>
                </a:cubicBezTo>
                <a:cubicBezTo>
                  <a:pt x="286" y="885"/>
                  <a:pt x="326" y="850"/>
                  <a:pt x="251" y="900"/>
                </a:cubicBezTo>
                <a:cubicBezTo>
                  <a:pt x="230" y="962"/>
                  <a:pt x="200" y="984"/>
                  <a:pt x="161" y="1035"/>
                </a:cubicBezTo>
                <a:cubicBezTo>
                  <a:pt x="111" y="1100"/>
                  <a:pt x="83" y="1158"/>
                  <a:pt x="26" y="1215"/>
                </a:cubicBezTo>
                <a:cubicBezTo>
                  <a:pt x="0" y="1294"/>
                  <a:pt x="2" y="1245"/>
                  <a:pt x="71" y="1245"/>
                </a:cubicBezTo>
                <a:cubicBezTo>
                  <a:pt x="276" y="1245"/>
                  <a:pt x="481" y="1255"/>
                  <a:pt x="686" y="1260"/>
                </a:cubicBezTo>
                <a:cubicBezTo>
                  <a:pt x="696" y="1290"/>
                  <a:pt x="706" y="1320"/>
                  <a:pt x="716" y="1350"/>
                </a:cubicBezTo>
                <a:cubicBezTo>
                  <a:pt x="745" y="1436"/>
                  <a:pt x="692" y="1437"/>
                  <a:pt x="686" y="1500"/>
                </a:cubicBezTo>
                <a:cubicBezTo>
                  <a:pt x="682" y="1540"/>
                  <a:pt x="686" y="1580"/>
                  <a:pt x="686" y="162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4C1962E9-4CF8-4088-AF78-E38AC8DFAE62}" type="slidenum">
              <a:t>1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40" name="PlaceHolder 2"/>
          <p:cNvSpPr>
            <a:spLocks noGrp="1"/>
          </p:cNvSpPr>
          <p:nvPr>
            <p:ph/>
          </p:nvPr>
        </p:nvSpPr>
        <p:spPr>
          <a:xfrm>
            <a:off x="457200" y="1219320"/>
            <a:ext cx="8229600" cy="36576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lationship between underlying thought patterns and language design in African and Indian Englishes have been investigated and documented (see Taiwo 1976; Pandharipande 1983; Y. Kachru 198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estion</a:t>
            </a:r>
            <a:r>
              <a:rPr b="0" lang="en-GB" sz="1800" spc="-1" strike="noStrike">
                <a:solidFill>
                  <a:srgbClr val="000000"/>
                </a:solidFill>
                <a:latin typeface="Arial"/>
              </a:rPr>
              <a:t>: Does the following text from the Corpus of Cameroon English (private letter component) illustrate a style that might be linked to a Thought Pattern abo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6C269A61-6555-440A-8006-7F28EB5DAEC5}" type="slidenum">
              <a:t>1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42"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Hello Male 1</a:t>
            </a:r>
            <a:r>
              <a:rPr b="0" lang="en-GB" sz="1800" spc="-1" strike="noStrike">
                <a:solidFill>
                  <a:srgbClr val="000000"/>
                </a:solidFill>
                <a:latin typeface="Arial"/>
              </a:rPr>
              <a:t>, How is life at the moment? Hope everything is on the good footing. As you know I will not come down to Yaounde. I may come down if there should be new presidential elections in March. </a:t>
            </a:r>
            <a:r>
              <a:rPr b="0" lang="en-GB" sz="1800" spc="-1" strike="noStrike">
                <a:solidFill>
                  <a:srgbClr val="ff33cc"/>
                </a:solidFill>
                <a:latin typeface="Arial"/>
              </a:rPr>
              <a:t>What I wanted to inform you is that you should really help me and gather my things for me</a:t>
            </a:r>
            <a:r>
              <a:rPr b="1" lang="en-GB" sz="1800" spc="-1" strike="noStrike">
                <a:solidFill>
                  <a:srgbClr val="000000"/>
                </a:solidFill>
                <a:latin typeface="Arial"/>
              </a:rPr>
              <a:t>.</a:t>
            </a:r>
            <a:r>
              <a:rPr b="0" lang="en-GB" sz="1800" spc="-1" strike="noStrike">
                <a:solidFill>
                  <a:srgbClr val="000000"/>
                </a:solidFill>
                <a:latin typeface="Arial"/>
              </a:rPr>
              <a:t> Take my radio cassette from Male2 and my dictionary </a:t>
            </a:r>
            <a:r>
              <a:rPr b="1" lang="en-GB" sz="1800" spc="-1" strike="noStrike">
                <a:solidFill>
                  <a:srgbClr val="000000"/>
                </a:solidFill>
                <a:latin typeface="Arial"/>
              </a:rPr>
              <a:t>[R1].</a:t>
            </a:r>
            <a:r>
              <a:rPr b="0" lang="en-GB" sz="1800" spc="-1" strike="noStrike">
                <a:solidFill>
                  <a:srgbClr val="000000"/>
                </a:solidFill>
                <a:latin typeface="Arial"/>
              </a:rPr>
              <a:t> Ask male3 to give you my notes on constitutional law History and Civil law </a:t>
            </a:r>
            <a:r>
              <a:rPr b="1" lang="en-GB" sz="1800" spc="-1" strike="noStrike">
                <a:solidFill>
                  <a:srgbClr val="000000"/>
                </a:solidFill>
                <a:latin typeface="Arial"/>
              </a:rPr>
              <a:t>[R2].</a:t>
            </a:r>
            <a:r>
              <a:rPr b="0" lang="en-GB" sz="1800" spc="-1" strike="noStrike">
                <a:solidFill>
                  <a:srgbClr val="000000"/>
                </a:solidFill>
                <a:latin typeface="Arial"/>
              </a:rPr>
              <a:t> Also go down with Male4 to our former landlord and collect some of the things there </a:t>
            </a:r>
            <a:r>
              <a:rPr b="1" lang="en-GB" sz="1800" spc="-1" strike="noStrike">
                <a:solidFill>
                  <a:srgbClr val="000000"/>
                </a:solidFill>
                <a:latin typeface="Arial"/>
              </a:rPr>
              <a:t>[R3].</a:t>
            </a:r>
            <a:r>
              <a:rPr b="0" lang="en-GB" sz="1800" spc="-1" strike="noStrike">
                <a:solidFill>
                  <a:srgbClr val="000000"/>
                </a:solidFill>
                <a:latin typeface="Arial"/>
              </a:rPr>
              <a:t> I seriously need those things especially the distributor </a:t>
            </a:r>
            <a:r>
              <a:rPr b="1" lang="en-GB" sz="1800" spc="-1" strike="noStrike">
                <a:solidFill>
                  <a:srgbClr val="000000"/>
                </a:solidFill>
                <a:latin typeface="Arial"/>
              </a:rPr>
              <a:t>[R4]</a:t>
            </a:r>
            <a:r>
              <a:rPr b="0" lang="en-GB" sz="1800" spc="-1" strike="noStrike">
                <a:solidFill>
                  <a:srgbClr val="000000"/>
                </a:solidFill>
                <a:latin typeface="Arial"/>
              </a:rPr>
              <a:t>. Please I am really begging on you to gather these things for me </a:t>
            </a:r>
            <a:r>
              <a:rPr b="1" lang="en-GB" sz="1800" spc="-1" strike="noStrike">
                <a:solidFill>
                  <a:srgbClr val="000000"/>
                </a:solidFill>
                <a:latin typeface="Arial"/>
              </a:rPr>
              <a:t>[R5].</a:t>
            </a:r>
            <a:r>
              <a:rPr b="0" lang="en-GB" sz="1800" spc="-1" strike="noStrike">
                <a:solidFill>
                  <a:srgbClr val="000000"/>
                </a:solidFill>
                <a:latin typeface="Arial"/>
              </a:rPr>
              <a:t> Some of the things are in Male6’s house I hope you know the place </a:t>
            </a:r>
            <a:r>
              <a:rPr b="1" lang="en-GB" sz="1800" spc="-1" strike="noStrike">
                <a:solidFill>
                  <a:srgbClr val="000000"/>
                </a:solidFill>
                <a:latin typeface="Arial"/>
              </a:rPr>
              <a:t>[R6]. </a:t>
            </a:r>
            <a:r>
              <a:rPr b="0" lang="en-GB" sz="1800" spc="-1" strike="noStrike">
                <a:solidFill>
                  <a:srgbClr val="000000"/>
                </a:solidFill>
                <a:latin typeface="Arial"/>
              </a:rPr>
              <a:t>I have along my travelling bag in which to put some of the things. You can even take them and keep in Male6’s house and when you see someone coming you can then give them to the</a:t>
            </a:r>
            <a:r>
              <a:rPr b="0" lang="en-GB" sz="2000" spc="-1" strike="noStrike">
                <a:solidFill>
                  <a:srgbClr val="000000"/>
                </a:solidFill>
                <a:latin typeface="Arial"/>
              </a:rPr>
              <a:t> </a:t>
            </a:r>
            <a:r>
              <a:rPr b="0" lang="en-GB" sz="1800" spc="-1" strike="noStrike">
                <a:solidFill>
                  <a:srgbClr val="000000"/>
                </a:solidFill>
                <a:latin typeface="Arial"/>
              </a:rPr>
              <a:t>person. The most essential thing is that the things should be gathered in one place so that I can direct anybody at any moment to collect them </a:t>
            </a:r>
            <a:r>
              <a:rPr b="1" lang="en-GB" sz="1800" spc="-1" strike="noStrike">
                <a:solidFill>
                  <a:srgbClr val="000000"/>
                </a:solidFill>
                <a:latin typeface="Arial"/>
              </a:rPr>
              <a:t>[R7].</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ign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C3C762F0-57C4-4EEB-AE2F-971C536EE9EB}" type="slidenum">
              <a:t>1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utline</a:t>
            </a:r>
            <a:endParaRPr b="0" lang="en-US" sz="2000" spc="-1" strike="noStrike">
              <a:solidFill>
                <a:srgbClr val="000000"/>
              </a:solidFill>
              <a:latin typeface="Arial"/>
            </a:endParaRPr>
          </a:p>
        </p:txBody>
      </p:sp>
      <p:sp>
        <p:nvSpPr>
          <p:cNvPr id="98" name="PlaceHolder 2"/>
          <p:cNvSpPr>
            <a:spLocks noGrp="1"/>
          </p:cNvSpPr>
          <p:nvPr>
            <p:ph/>
          </p:nvPr>
        </p:nvSpPr>
        <p:spPr>
          <a:xfrm>
            <a:off x="685440" y="990360"/>
            <a:ext cx="7924680" cy="51051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1" lang="en-US" sz="1800" spc="-1" strike="noStrike">
                <a:solidFill>
                  <a:srgbClr val="000000"/>
                </a:solidFill>
                <a:latin typeface="Arial"/>
              </a:rPr>
              <a:t> </a:t>
            </a:r>
            <a:r>
              <a:rPr b="0" lang="en-US" sz="1800" spc="-1" strike="noStrike">
                <a:solidFill>
                  <a:srgbClr val="000000"/>
                </a:solidFill>
                <a:latin typeface="Arial"/>
              </a:rPr>
              <a:t>Introduction: language, culture and variation</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language and idea of culture</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practices in different cultur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a:t>
            </a:r>
            <a:r>
              <a:rPr b="0" lang="en-US" sz="1800" spc="-1" strike="noStrike">
                <a:solidFill>
                  <a:srgbClr val="000000"/>
                </a:solidFill>
                <a:latin typeface="Arial"/>
              </a:rPr>
              <a:t>Academic writing as community practice</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tions, Styles and Community</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 of a horizontal relationship</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1" lang="en-US" sz="1800" spc="-1" strike="noStrike">
                <a:solidFill>
                  <a:srgbClr val="000000"/>
                </a:solidFill>
                <a:latin typeface="Arial"/>
              </a:rPr>
              <a:t> </a:t>
            </a:r>
            <a:r>
              <a:rPr b="0" lang="en-US" sz="1800" spc="-1" strike="noStrike">
                <a:solidFill>
                  <a:srgbClr val="000000"/>
                </a:solidFill>
                <a:latin typeface="Arial"/>
              </a:rPr>
              <a:t>Academic culture</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views of culture</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writing as cultural practice</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1" lang="en-US" sz="1800" spc="-1" strike="noStrike">
                <a:solidFill>
                  <a:srgbClr val="000000"/>
                </a:solidFill>
                <a:latin typeface="Arial"/>
              </a:rPr>
              <a:t> </a:t>
            </a:r>
            <a:r>
              <a:rPr b="0" lang="en-US" sz="1800" spc="-1" strike="noStrike">
                <a:solidFill>
                  <a:srgbClr val="000000"/>
                </a:solidFill>
                <a:latin typeface="Arial"/>
              </a:rPr>
              <a:t>Theoretical premise</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tung’s (1981) Intellectual Styles</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lan’s (1966/1980) Cultural Thought Patterns</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1" lang="en-US" sz="1800" spc="-1" strike="noStrike">
                <a:solidFill>
                  <a:srgbClr val="000000"/>
                </a:solidFill>
                <a:latin typeface="Arial"/>
              </a:rPr>
              <a:t> </a:t>
            </a:r>
            <a:r>
              <a:rPr b="0" lang="en-US" sz="1800" spc="-1" strike="noStrike">
                <a:solidFill>
                  <a:srgbClr val="000000"/>
                </a:solidFill>
                <a:latin typeface="Arial"/>
              </a:rPr>
              <a:t>Data and methodolog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1" lang="en-US" sz="1400" spc="-1" strike="noStrike">
                <a:solidFill>
                  <a:srgbClr val="000000"/>
                </a:solidFill>
                <a:latin typeface="Arial"/>
              </a:rPr>
              <a:t> </a:t>
            </a:r>
            <a:r>
              <a:rPr b="0" lang="fr-FR" sz="1800" spc="-1" strike="noStrike">
                <a:solidFill>
                  <a:srgbClr val="000000"/>
                </a:solidFill>
                <a:latin typeface="Arial"/>
              </a:rPr>
              <a:t>Fingings</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iloquent style (discoursal and lexical levels)</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ual architecture (from general to specific vs. specific to general)</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strategies (metadiscourse and hedging)</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r>
              <a:rPr b="1" lang="fr-FR" sz="1800" spc="-1" strike="noStrike">
                <a:solidFill>
                  <a:srgbClr val="000000"/>
                </a:solidFill>
                <a:latin typeface="Arial"/>
              </a:rPr>
              <a:t> </a:t>
            </a:r>
            <a:r>
              <a:rPr b="0" lang="fr-FR" sz="1800" spc="-1" strike="noStrike">
                <a:solidFill>
                  <a:srgbClr val="000000"/>
                </a:solidFill>
                <a:latin typeface="Arial"/>
              </a:rPr>
              <a:t>Conclus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1" lang="en-US" sz="1800" spc="-1" strike="noStrike">
                <a:solidFill>
                  <a:srgbClr val="000000"/>
                </a:solidFill>
                <a:latin typeface="Arial"/>
              </a:rPr>
              <a:t> </a:t>
            </a:r>
            <a:r>
              <a:rPr b="0" lang="en-US" sz="1800" spc="-1" strike="noStrike">
                <a:solidFill>
                  <a:srgbClr val="000000"/>
                </a:solidFill>
                <a:latin typeface="Arial"/>
              </a:rPr>
              <a:t>A word on ICE-Camero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72B6C4A3-C276-4BF2-820B-9138DCCDCCB5}" type="slidenum">
              <a:t>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44"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3 Extrapolating relevant aspects for interpretation of results</a:t>
            </a:r>
            <a:endParaRPr b="0" lang="en-US" sz="2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ltung’s portrayal of Gallic intellectual  style as preoccupied with linguistic artistry is relevant in the interpretation of my results</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 Flamboyant language or expressive sty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en-GB" sz="1800" spc="-1" strike="noStrike">
                <a:solidFill>
                  <a:srgbClr val="000000"/>
                </a:solidFill>
                <a:latin typeface="Arial"/>
              </a:rPr>
              <a:t>Preference for “big” wor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plan’s characterization of Semitic Thought Patterns as cyclical and repetitive is relevant in the interpretation of some of the results</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 Tendency for repetition (as in text abo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C2932E35-1B80-4656-A080-1FCEF3977724}" type="slidenum">
              <a:t>2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92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Data and methodology</a:t>
            </a:r>
            <a:endParaRPr b="0" lang="en-US" sz="2000" spc="-1" strike="noStrike">
              <a:solidFill>
                <a:srgbClr val="000000"/>
              </a:solidFill>
              <a:latin typeface="Arial"/>
            </a:endParaRPr>
          </a:p>
        </p:txBody>
      </p:sp>
      <p:sp>
        <p:nvSpPr>
          <p:cNvPr id="14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1 Data</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rpus of 7 articles of 44,458 words submitted for publication in the Cameroonian-based journal, </a:t>
            </a:r>
            <a:r>
              <a:rPr b="0" i="1" lang="en-GB" sz="1800" spc="-1" strike="noStrike">
                <a:solidFill>
                  <a:srgbClr val="000000"/>
                </a:solidFill>
                <a:latin typeface="Arial"/>
              </a:rPr>
              <a:t>Review Syllabus, </a:t>
            </a:r>
            <a:r>
              <a:rPr b="0" lang="en-GB" sz="1800" spc="-1" strike="noStrike">
                <a:solidFill>
                  <a:srgbClr val="000000"/>
                </a:solidFill>
                <a:latin typeface="Arial"/>
              </a:rPr>
              <a:t>2009-2010</a:t>
            </a:r>
            <a:r>
              <a:rPr b="0" lang="en-GB" sz="2400" spc="-1" strike="noStrike">
                <a:solidFill>
                  <a:srgbClr val="000000"/>
                </a:solidFill>
                <a:latin typeface="Arial"/>
              </a:rPr>
              <a:t> </a:t>
            </a:r>
            <a:r>
              <a:rPr b="0" lang="en-GB" sz="1800" spc="-1" strike="noStrike">
                <a:solidFill>
                  <a:srgbClr val="000000"/>
                </a:solidFill>
                <a:latin typeface="Arial"/>
              </a:rPr>
              <a:t>(</a:t>
            </a:r>
            <a:r>
              <a:rPr b="0" lang="en-GB" sz="1800" spc="-1" strike="noStrike" u="sng">
                <a:solidFill>
                  <a:srgbClr val="6767ff"/>
                </a:solidFill>
                <a:uFillTx/>
                <a:latin typeface="Arial"/>
                <a:hlinkClick r:id="rId1"/>
              </a:rPr>
              <a:t>http://ens.cm/spip.php?article337</a:t>
            </a:r>
            <a:r>
              <a:rPr b="0" lang="en-GB" sz="18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rpus of conference abstracts of 30,405 words submitted for the Younde International conferences of 2005 and 20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 Method</a:t>
            </a: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erarchy of text: which macro-proportions are dependent on whic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 dynamics: how texts are developed (metadiscourse) and how propositions are presented (hedg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0B5835C-56FC-4E5D-A522-3B9A70798D4C}" type="slidenum">
              <a:t>2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 Findings</a:t>
            </a:r>
            <a:endParaRPr b="0" lang="en-US" sz="2000" spc="-1" strike="noStrike">
              <a:solidFill>
                <a:srgbClr val="000000"/>
              </a:solidFill>
              <a:latin typeface="Arial"/>
            </a:endParaRPr>
          </a:p>
        </p:txBody>
      </p:sp>
      <p:sp>
        <p:nvSpPr>
          <p:cNvPr id="148" name="PlaceHolder 2"/>
          <p:cNvSpPr>
            <a:spLocks noGrp="1"/>
          </p:cNvSpPr>
          <p:nvPr>
            <p:ph/>
          </p:nvPr>
        </p:nvSpPr>
        <p:spPr>
          <a:xfrm>
            <a:off x="457200" y="914400"/>
            <a:ext cx="8229600" cy="4952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1 </a:t>
            </a:r>
            <a:r>
              <a:rPr b="1" lang="en-GB" sz="2000" spc="-1" strike="noStrike">
                <a:solidFill>
                  <a:srgbClr val="000000"/>
                </a:solidFill>
                <a:latin typeface="Arial"/>
              </a:rPr>
              <a:t>Grandiloquent style (discoural and lexical)</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Text 1</a:t>
            </a:r>
            <a:r>
              <a:rPr b="1" lang="de-DE" sz="1600" spc="-1" strike="noStrike">
                <a:solidFill>
                  <a:srgbClr val="000000"/>
                </a:solidFill>
                <a:latin typeface="Arial"/>
              </a:rPr>
              <a:t>. </a:t>
            </a:r>
            <a:r>
              <a:rPr b="0" lang="en-GB" sz="1800" spc="-1" strike="noStrike">
                <a:solidFill>
                  <a:srgbClr val="000000"/>
                </a:solidFill>
                <a:latin typeface="Arial"/>
              </a:rPr>
              <a:t>Ba’bila Mutia in </a:t>
            </a:r>
            <a:r>
              <a:rPr b="0" i="1" lang="en-GB" sz="1800" spc="-1" strike="noStrike">
                <a:solidFill>
                  <a:srgbClr val="000000"/>
                </a:solidFill>
                <a:latin typeface="Arial"/>
              </a:rPr>
              <a:t>Before </a:t>
            </a:r>
            <a:r>
              <a:rPr b="0" i="1" lang="en-GB" sz="1800" spc="-1" strike="noStrike" u="sng">
                <a:solidFill>
                  <a:srgbClr val="000000"/>
                </a:solidFill>
                <a:uFillTx/>
                <a:latin typeface="Arial"/>
              </a:rPr>
              <a:t>This Time, Yesterday</a:t>
            </a:r>
            <a:r>
              <a:rPr b="0" lang="en-GB" sz="1800" spc="-1" strike="noStrike">
                <a:solidFill>
                  <a:srgbClr val="000000"/>
                </a:solidFill>
                <a:latin typeface="Arial"/>
              </a:rPr>
              <a:t> successfully sublimates politics into the rigours of art.  In the effort to recreate an aesthetic that has eternal appeal in man’s striving to overthrow what tyrannizes the spirit, the playwright construes that the erosion of state legitimacy is what might have compelled the authoritarian, neo-colonial regime to unleash a violent backlash against the forces that were advocating democratic changes in the Cameroonian society.  Yet, in using theatre as a historical necessity, and seemingly abstracting from the historical dialectic to inform and authenticate the depiction of atavistic dysfunctionality, the pathological asymmetries of modern life are not placed in critical perspective, and character is consequently sacrificed for artistic pattern.  Thus, in the attempt to pursue a vigorous criticism, the paper questions concepts of mimesis and production thereby emphasizing the dialectical relationship between the context of Mutia’s historical drama and its specific content and form.  Of course the place of post-colonial pedagogy (Fanon, Said, Baol, Ngugi) is crucial in that it clarifies the philosophical underpinning of liberal humanist critical positions by removing emotive elements in the discourse in order to enable objective engagemen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6BE02E8A-4A56-42EE-9D2A-274BDDF3F70A}" type="slidenum">
              <a:t>2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0"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ndiloquent style (discoural and lexical)</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1800" spc="-1" strike="noStrike" u="sng">
                <a:solidFill>
                  <a:srgbClr val="000000"/>
                </a:solidFill>
                <a:uFillTx/>
                <a:latin typeface="Arial"/>
              </a:rPr>
              <a:t>Text 2</a:t>
            </a:r>
            <a:r>
              <a:rPr b="1" lang="en-GB" sz="1800" spc="-1" strike="noStrike">
                <a:solidFill>
                  <a:srgbClr val="000000"/>
                </a:solidFill>
                <a:latin typeface="Arial"/>
              </a:rPr>
              <a:t>.</a:t>
            </a:r>
            <a:r>
              <a:rPr b="1" lang="en-GB" sz="2800" spc="-1" strike="noStrike">
                <a:solidFill>
                  <a:srgbClr val="000000"/>
                </a:solidFill>
                <a:latin typeface="Arial"/>
              </a:rPr>
              <a:t> </a:t>
            </a:r>
            <a:r>
              <a:rPr b="0" lang="en-GB" sz="1800" spc="-1" strike="noStrike">
                <a:solidFill>
                  <a:srgbClr val="000000"/>
                </a:solidFill>
                <a:latin typeface="Arial"/>
              </a:rPr>
              <a:t>In analyzing the relativistic conception of the individual with regards to the larger and apparently homogenous society this paper will contemplate many questions: are knowledge and morality compatible? Is morality a subjective or an objective standardization of the mores of society? Can psychological self-exile help the individual from falling into moral depression and degeneration? Do the authors under study succeed in fathoming the moral rightness or wrongness of the situation they handle?</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ext 3</a:t>
            </a:r>
            <a:r>
              <a:rPr b="1" lang="de-DE" sz="1800" spc="-1" strike="noStrike">
                <a:solidFill>
                  <a:srgbClr val="000000"/>
                </a:solidFill>
                <a:latin typeface="Arial"/>
              </a:rPr>
              <a:t>.</a:t>
            </a:r>
            <a:r>
              <a:rPr b="1" lang="de-DE" sz="2800" spc="-1" strike="noStrike">
                <a:solidFill>
                  <a:srgbClr val="000000"/>
                </a:solidFill>
                <a:latin typeface="Arial"/>
              </a:rPr>
              <a:t> </a:t>
            </a:r>
            <a:r>
              <a:rPr b="0" lang="en-GB" sz="1800" spc="-1" strike="noStrike">
                <a:solidFill>
                  <a:srgbClr val="000000"/>
                </a:solidFill>
                <a:latin typeface="Arial"/>
              </a:rPr>
              <a:t>It is within this context that this paper charts the argument that to these authors under study, knowledge instead of having the Promethean significance of freeing the individual from the chains of existential constraints, fails to negotiate the construction of their social and moral identity</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0A95917D-4473-4EE5-B5B8-B9B903C0C066}" type="slidenum">
              <a:t>2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2"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2 Text architectur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General to specific about 7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ext 4</a:t>
            </a:r>
            <a:r>
              <a:rPr b="0" lang="de-DE" sz="2000" spc="-1" strike="noStrike">
                <a:solidFill>
                  <a:srgbClr val="000000"/>
                </a:solidFill>
                <a:latin typeface="Arial"/>
              </a:rPr>
              <a:t>.</a:t>
            </a:r>
            <a:r>
              <a:rPr b="0" lang="de-DE" sz="1200" spc="-1" strike="noStrike">
                <a:solidFill>
                  <a:srgbClr val="000000"/>
                </a:solidFill>
                <a:latin typeface="Arial"/>
              </a:rPr>
              <a:t> </a:t>
            </a:r>
            <a:r>
              <a:rPr b="0" lang="en-US" sz="1800" spc="-1" strike="noStrike">
                <a:solidFill>
                  <a:srgbClr val="000000"/>
                </a:solidFill>
                <a:latin typeface="Arial"/>
              </a:rPr>
              <a:t>That English is the most spoken language in the world is no longer subject to any debate. The language has spread its tentacles to almost all the corners of the globe assuming different functions and statuses. This is an unprecedented spread has raised a number of concerns prominent among which is the problem of the model that should be used in each English-speaking setting. The debate becomes even more serious when it comes to the question of the model to be used in Non-Native settings like India and Cameroon. While some researchers think that a native model should be imposed on Non-native users so as to guarantee international intelligibility, some of them think that each Non-Native English setting should use the local model developed there because it serves as a marker of the speaker</a:t>
            </a:r>
            <a:r>
              <a:rPr b="0" lang="fr-FR" sz="1800" spc="-1" strike="noStrike">
                <a:solidFill>
                  <a:srgbClr val="000000"/>
                </a:solidFill>
                <a:latin typeface="Arial"/>
              </a:rPr>
              <a:t>’</a:t>
            </a:r>
            <a:r>
              <a:rPr b="0" lang="en-US" sz="1800" spc="-1" strike="noStrike">
                <a:solidFill>
                  <a:srgbClr val="000000"/>
                </a:solidFill>
                <a:latin typeface="Arial"/>
              </a:rPr>
              <a:t>s cultural identity. There is equally a third school of thought which advocates the establishment of a neutral international model that can serve both Native and Non-Native users. As this debate goes on, the teacher and learner of English seem to be facing a serious challenge. </a:t>
            </a:r>
            <a:r>
              <a:rPr b="1" lang="en-US" sz="1800" spc="-1" strike="noStrike">
                <a:solidFill>
                  <a:srgbClr val="000000"/>
                </a:solidFill>
                <a:latin typeface="Arial"/>
              </a:rPr>
              <a:t>This paper aims to examine this problem from a Non-Native English perspective, with Cameroon as a case stud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486FD92-30B4-4B9D-81A7-4673BB5CA1CF}" type="slidenum">
              <a:t>2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92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specific to general (about 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ext 5</a:t>
            </a:r>
            <a:r>
              <a:rPr b="0" lang="de-DE" sz="2000" spc="-1" strike="noStrike">
                <a:solidFill>
                  <a:srgbClr val="000000"/>
                </a:solidFill>
                <a:latin typeface="Arial"/>
              </a:rPr>
              <a:t>.</a:t>
            </a:r>
            <a:r>
              <a:rPr b="0" lang="de-DE" sz="1000" spc="-1" strike="noStrike">
                <a:solidFill>
                  <a:srgbClr val="000000"/>
                </a:solidFill>
                <a:latin typeface="Arial"/>
              </a:rPr>
              <a:t> </a:t>
            </a:r>
            <a:r>
              <a:rPr b="1" lang="en-GB" sz="1800" spc="-1" strike="noStrike">
                <a:solidFill>
                  <a:srgbClr val="000000"/>
                </a:solidFill>
                <a:latin typeface="Arial"/>
              </a:rPr>
              <a:t>This paper aims at charting a number of questions for instance</a:t>
            </a:r>
            <a:r>
              <a:rPr b="0" lang="en-GB" sz="1800" spc="-1" strike="noStrike">
                <a:solidFill>
                  <a:srgbClr val="000000"/>
                </a:solidFill>
                <a:latin typeface="Arial"/>
              </a:rPr>
              <a:t>, whether or not the intrusion of theory into the literary text influences the reader’s perception of the author’s intention? Does New Historicist readings of the plays of Butake, Besong, Tanyi-Tang and Nkemngong help in bringing to the forefront these playwrights or does it on the contrary efface their historical relevance? If these theories influence the perception of the meaning of the texts, and vice versa, then is it right to say that theory exists because the texts does or vice versa? Although this paper attempts a New Historicist reading of these texts, its overall aim would be to demonstrate the extent to which literary theory impacts on a deeper understanding of literary texts. Theory can lead and sometimes does leads to subjective apprehension of intention. It helps in capturing sometimes-unfathomable levels of meanings, and authorial reality. Were it is acutely lacking like in our Cameroonian institutions, the disservice it does to literary interpretation is enormous. </a:t>
            </a:r>
            <a:r>
              <a:rPr b="1" lang="en-GB" sz="1800" spc="-1" strike="noStrike">
                <a:solidFill>
                  <a:srgbClr val="000000"/>
                </a:solidFill>
                <a:latin typeface="Arial"/>
              </a:rPr>
              <a:t>This paper will argue that theory elevates the literary text from the banality of  “all-goes” to more refined and focused ideological strain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B89729B0-902A-4190-8C31-8FEF2428E7E0}" type="slidenum">
              <a:t>2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obvious pattern; just round and rou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re but occur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xt 6.</a:t>
            </a:r>
            <a:r>
              <a:rPr b="1" lang="de-DE" sz="900" spc="-1" strike="noStrike">
                <a:solidFill>
                  <a:srgbClr val="000000"/>
                </a:solidFill>
                <a:latin typeface="Arial"/>
              </a:rPr>
              <a:t> </a:t>
            </a:r>
            <a:r>
              <a:rPr b="0" lang="en-GB" sz="1800" spc="-1" strike="noStrike">
                <a:solidFill>
                  <a:srgbClr val="000000"/>
                </a:solidFill>
                <a:latin typeface="Arial"/>
              </a:rPr>
              <a:t>Cameroonian creative writers of English expression have adopted an imperial language, English, and the novelistic art form to serve the Cameroonian vision. Like many others, the four novels discussed in this article (</a:t>
            </a:r>
            <a:r>
              <a:rPr b="0" i="1" lang="en-GB" sz="1800" spc="-1" strike="noStrike">
                <a:solidFill>
                  <a:srgbClr val="000000"/>
                </a:solidFill>
                <a:latin typeface="Arial"/>
              </a:rPr>
              <a:t>The Disillusioned African</a:t>
            </a:r>
            <a:r>
              <a:rPr b="0" lang="en-GB" sz="1800" spc="-1" strike="noStrike">
                <a:solidFill>
                  <a:srgbClr val="000000"/>
                </a:solidFill>
                <a:latin typeface="Arial"/>
              </a:rPr>
              <a:t> (1995) by Francis B. Nyamnjoh, </a:t>
            </a:r>
            <a:r>
              <a:rPr b="0" i="1" lang="en-GB" sz="1800" spc="-1" strike="noStrike">
                <a:solidFill>
                  <a:srgbClr val="000000"/>
                </a:solidFill>
                <a:latin typeface="Arial"/>
              </a:rPr>
              <a:t>Across the Mongolo</a:t>
            </a:r>
            <a:r>
              <a:rPr b="0" lang="en-GB" sz="1800" spc="-1" strike="noStrike">
                <a:solidFill>
                  <a:srgbClr val="000000"/>
                </a:solidFill>
                <a:latin typeface="Arial"/>
              </a:rPr>
              <a:t> (2004) by J.N. Nkengasong, </a:t>
            </a:r>
            <a:r>
              <a:rPr b="0" i="1" lang="en-GB" sz="1800" spc="-1" strike="noStrike">
                <a:solidFill>
                  <a:srgbClr val="000000"/>
                </a:solidFill>
                <a:latin typeface="Arial"/>
              </a:rPr>
              <a:t>The Death Certificate</a:t>
            </a:r>
            <a:r>
              <a:rPr b="0" lang="en-GB" sz="1800" spc="-1" strike="noStrike">
                <a:solidFill>
                  <a:srgbClr val="000000"/>
                </a:solidFill>
                <a:latin typeface="Arial"/>
              </a:rPr>
              <a:t> (2004) by Alobwed’Epie and </a:t>
            </a:r>
            <a:r>
              <a:rPr b="0" i="1" lang="en-GB" sz="1800" spc="-1" strike="noStrike">
                <a:solidFill>
                  <a:srgbClr val="000000"/>
                </a:solidFill>
                <a:latin typeface="Arial"/>
              </a:rPr>
              <a:t>The Deadly Honey</a:t>
            </a:r>
            <a:r>
              <a:rPr b="0" lang="en-GB" sz="1800" spc="-1" strike="noStrike">
                <a:solidFill>
                  <a:srgbClr val="000000"/>
                </a:solidFill>
                <a:latin typeface="Arial"/>
              </a:rPr>
              <a:t> (2002) by Eugene J. Kongnyuy are exploring, dramatizing and exposing the mores, and critiquing the social ills that plague the Cameroonian/African society; in the process, they are entertaining, interpreting and educating the very society. The teaching, the instructional, dimension of this form of imaginative literature resides in the inspiring lessons drawn from the novels, the moral emerging from them or the subtle messages delivered by their authors, in a manner peculiar to literary art, all of this for the benefit of the socially deprived or oppressed. </a:t>
            </a:r>
            <a:r>
              <a:rPr b="1" lang="en-GB" sz="1800" spc="-1" strike="noStrike">
                <a:solidFill>
                  <a:srgbClr val="000000"/>
                </a:solidFill>
                <a:latin typeface="Arial"/>
              </a:rPr>
              <a:t>Herein lies the instructional value of the four texts</a:t>
            </a:r>
            <a:r>
              <a:rPr b="1"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02BA2C5A-3D45-4637-B1A2-AA2E7C9401EB}" type="slidenum">
              <a:t>2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8"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3 Textual  strateg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3.1 Metadiscour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discourse is generally understood as text about the text or discourse about the on-going discourse (Vande Kopple 1985; Mauranen 1993b; Rahman 2004)</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discourse is ‘writing about writing, whatever does not refer to the subject matter being address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discourse provides a way of talking to the reader and consists of several categor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5793A6E0-77F3-4FF1-82B7-33F801C69B00}" type="slidenum">
              <a:t>2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60"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me examples of metadiscour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onnectors” </a:t>
            </a:r>
            <a:r>
              <a:rPr b="0" lang="en-GB" sz="1800" spc="-1" strike="noStrike">
                <a:solidFill>
                  <a:srgbClr val="000000"/>
                </a:solidFill>
                <a:latin typeface="Arial"/>
              </a:rPr>
              <a:t> show the organization of the text and make the structure easier to perceive (e.g. </a:t>
            </a:r>
            <a:r>
              <a:rPr b="0" i="1" lang="en-GB" sz="1800" spc="-1" strike="noStrike">
                <a:solidFill>
                  <a:srgbClr val="000000"/>
                </a:solidFill>
                <a:latin typeface="Arial"/>
              </a:rPr>
              <a:t>therefore</a:t>
            </a:r>
            <a:r>
              <a:rPr b="0" lang="en-GB" sz="1800" spc="-1" strike="noStrike">
                <a:solidFill>
                  <a:srgbClr val="000000"/>
                </a:solidFill>
                <a:latin typeface="Arial"/>
              </a:rPr>
              <a:t>, </a:t>
            </a:r>
            <a:r>
              <a:rPr b="0" i="1" lang="en-GB" sz="1800" spc="-1" strike="noStrike">
                <a:solidFill>
                  <a:srgbClr val="000000"/>
                </a:solidFill>
                <a:latin typeface="Arial"/>
              </a:rPr>
              <a:t>in the first section, final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ode glosses”</a:t>
            </a:r>
            <a:r>
              <a:rPr b="0" lang="en-GB" sz="1800" spc="-1" strike="noStrike">
                <a:solidFill>
                  <a:srgbClr val="000000"/>
                </a:solidFill>
                <a:latin typeface="Arial"/>
              </a:rPr>
              <a:t> help the reader to understand intended textual by expanding on what is said through various ways (e.g. </a:t>
            </a:r>
            <a:r>
              <a:rPr b="0" i="1" lang="en-GB" sz="1800" spc="-1" strike="noStrike">
                <a:solidFill>
                  <a:srgbClr val="000000"/>
                </a:solidFill>
                <a:latin typeface="Arial"/>
              </a:rPr>
              <a:t>for example</a:t>
            </a:r>
            <a:r>
              <a:rPr b="0" lang="en-GB" sz="1800" spc="-1" strike="noStrike">
                <a:solidFill>
                  <a:srgbClr val="000000"/>
                </a:solidFill>
                <a:latin typeface="Arial"/>
              </a:rPr>
              <a:t>, </a:t>
            </a:r>
            <a:r>
              <a:rPr b="0" i="1" lang="en-GB" sz="1800" spc="-1" strike="noStrike">
                <a:solidFill>
                  <a:srgbClr val="000000"/>
                </a:solidFill>
                <a:latin typeface="Arial"/>
              </a:rPr>
              <a:t>in other words</a:t>
            </a:r>
            <a:r>
              <a:rPr b="0" lang="en-GB" sz="1800" spc="-1" strike="noStrike">
                <a:solidFill>
                  <a:srgbClr val="000000"/>
                </a:solidFill>
                <a:latin typeface="Arial"/>
              </a:rPr>
              <a:t>, </a:t>
            </a:r>
            <a:r>
              <a:rPr b="0" i="1" lang="en-GB" sz="1800" spc="-1" strike="noStrike">
                <a:solidFill>
                  <a:srgbClr val="000000"/>
                </a:solidFill>
                <a:latin typeface="Arial"/>
              </a:rPr>
              <a:t>namely</a:t>
            </a:r>
            <a:r>
              <a:rPr b="0" lang="en-GB" sz="1800" spc="-1" strike="noStrike">
                <a:solidFill>
                  <a:srgbClr val="000000"/>
                </a:solidFill>
                <a:latin typeface="Arial"/>
              </a:rPr>
              <a:t>, </a:t>
            </a:r>
            <a:r>
              <a:rPr b="0" i="1" lang="en-GB" sz="1800" spc="-1" strike="noStrike">
                <a:solidFill>
                  <a:srgbClr val="000000"/>
                </a:solidFill>
                <a:latin typeface="Arial"/>
              </a:rPr>
              <a:t>for instanc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directives”</a:t>
            </a:r>
            <a:r>
              <a:rPr b="0" lang="en-GB" sz="1800" spc="-1" strike="noStrike">
                <a:solidFill>
                  <a:srgbClr val="000000"/>
                </a:solidFill>
                <a:latin typeface="Arial"/>
              </a:rPr>
              <a:t> direct the reader (e.g. </a:t>
            </a:r>
            <a:r>
              <a:rPr b="0" i="1" lang="en-GB" sz="1800" spc="-1" strike="noStrike">
                <a:solidFill>
                  <a:srgbClr val="000000"/>
                </a:solidFill>
                <a:latin typeface="Arial"/>
              </a:rPr>
              <a:t>let us, if we consider</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inclusive pronouns”</a:t>
            </a:r>
            <a:r>
              <a:rPr b="0" lang="en-GB" sz="1800" spc="-1" strike="noStrike">
                <a:solidFill>
                  <a:srgbClr val="000000"/>
                </a:solidFill>
                <a:latin typeface="Arial"/>
              </a:rPr>
              <a:t> establishing connections with the reader (</a:t>
            </a:r>
            <a:r>
              <a:rPr b="0" i="1" lang="en-GB" sz="1800" spc="-1" strike="noStrike">
                <a:solidFill>
                  <a:srgbClr val="000000"/>
                </a:solidFill>
                <a:latin typeface="Arial"/>
              </a:rPr>
              <a:t>we, us, our</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CFEA153A-8A35-4884-9D77-681009CFEA47}" type="slidenum">
              <a:t>2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62"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endParaRPr b="0" lang="en-US" sz="2000" spc="-1" strike="noStrike">
              <a:solidFill>
                <a:srgbClr val="000000"/>
              </a:solidFill>
              <a:latin typeface="Arial"/>
            </a:endParaRPr>
          </a:p>
        </p:txBody>
      </p:sp>
      <p:pic>
        <p:nvPicPr>
          <p:cNvPr id="163" name="" descr=""/>
          <p:cNvPicPr/>
          <p:nvPr/>
        </p:nvPicPr>
        <p:blipFill>
          <a:blip r:embed="rId1"/>
          <a:stretch/>
        </p:blipFill>
        <p:spPr>
          <a:xfrm>
            <a:off x="228600" y="1295280"/>
            <a:ext cx="8381880" cy="476280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0BB11375-E444-4DB2-BB29-A59EBCE198D4}" type="slidenum">
              <a:t>2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ctr">
            <a:noAutofit/>
          </a:bodyPr>
          <a:p>
            <a:pPr marL="838080" indent="-838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br>
              <a:rPr sz="2000"/>
            </a:br>
            <a:r>
              <a:rPr b="1" lang="de-DE" sz="2000" spc="-1" strike="noStrike">
                <a:solidFill>
                  <a:srgbClr val="000000"/>
                </a:solidFill>
                <a:latin typeface="Arial"/>
              </a:rPr>
              <a:t>language, culture and variation</a:t>
            </a:r>
            <a:endParaRPr b="0" lang="en-US" sz="2000" spc="-1" strike="noStrike">
              <a:solidFill>
                <a:srgbClr val="000000"/>
              </a:solidFill>
              <a:latin typeface="Arial"/>
            </a:endParaRPr>
          </a:p>
        </p:txBody>
      </p:sp>
      <p:sp>
        <p:nvSpPr>
          <p:cNvPr id="100" name="PlaceHolder 2"/>
          <p:cNvSpPr>
            <a:spLocks noGrp="1"/>
          </p:cNvSpPr>
          <p:nvPr>
            <p:ph/>
          </p:nvPr>
        </p:nvSpPr>
        <p:spPr>
          <a:xfrm>
            <a:off x="380880" y="1447560"/>
            <a:ext cx="876312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1 Linking language and idea of cult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ink between culture and language has always been a strong one, with the understanding that the “spirit” of language exerts a formative influence on its speakers and writers (German philosopher, Karl Wilhelm von Humboldt, 1767-1835)</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e style est l’homme même” (style makes a man) (Dournon 1994)</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long tradition in world Englishes of investigating “sociolinguistic realities” and “bilingual creativity” of Outer-Circle and Expanding-Circles societies (Kachru 1983; Mauranen 1993a)</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CBFB227-23C9-4C6E-9D24-0A6A202659C1}" type="slidenum">
              <a:t>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65" name="PlaceHolder 2"/>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me examples of text-organizing metadiscour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1" i="1" lang="en-GB" sz="1600" spc="-1" strike="noStrike">
                <a:solidFill>
                  <a:srgbClr val="000000"/>
                </a:solidFill>
                <a:latin typeface="Arial"/>
              </a:rPr>
              <a:t>Cause, concessive</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ditional African Religions, there is the proliferation of Western religious traditions amongst which are Christianity and Islam. </a:t>
            </a:r>
            <a:r>
              <a:rPr b="1" lang="en-GB" sz="1600" spc="-1" strike="noStrike">
                <a:solidFill>
                  <a:srgbClr val="ff33cc"/>
                </a:solidFill>
                <a:latin typeface="Arial"/>
              </a:rPr>
              <a:t>However</a:t>
            </a:r>
            <a:r>
              <a:rPr b="0" lang="en-GB" sz="1600" spc="-1" strike="noStrike">
                <a:solidFill>
                  <a:srgbClr val="000000"/>
                </a:solidFill>
                <a:latin typeface="Arial"/>
              </a:rPr>
              <a:t>, while the Africans accept religious co-existence as a multicultural reality, African writers on their part, especially contemporary African playwrights (Absts 05_06.txt)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eans, expectant</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of Nigeria. Any extra profits were to be used for the benefit of the people of the Trust territory (Konings 39). </a:t>
            </a:r>
            <a:r>
              <a:rPr b="1" lang="en-US" sz="1600" spc="-1" strike="noStrike">
                <a:solidFill>
                  <a:srgbClr val="ff33cc"/>
                </a:solidFill>
                <a:latin typeface="Arial"/>
              </a:rPr>
              <a:t>Thus</a:t>
            </a:r>
            <a:r>
              <a:rPr b="1" lang="en-US" sz="1600" spc="-1" strike="noStrike">
                <a:solidFill>
                  <a:srgbClr val="000000"/>
                </a:solidFill>
                <a:latin typeface="Arial"/>
              </a:rPr>
              <a:t> </a:t>
            </a:r>
            <a:r>
              <a:rPr b="0" lang="en-US" sz="1600" spc="-1" strike="noStrike">
                <a:solidFill>
                  <a:srgbClr val="000000"/>
                </a:solidFill>
                <a:latin typeface="Arial"/>
              </a:rPr>
              <a:t>presented, it was clear that the specific concerns of the Bakweri were not addressed while determining the future of ..(Syllabus 09_10.tx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ddition, additive (very few cases, why?)</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rank highest (17.1%). All these simply imply that most teachers and head teachers do not have computers in their homes. </a:t>
            </a:r>
            <a:r>
              <a:rPr b="0" lang="en-US" sz="1600" spc="-1" strike="noStrike">
                <a:solidFill>
                  <a:srgbClr val="ff33cc"/>
                </a:solidFill>
                <a:latin typeface="Arial"/>
              </a:rPr>
              <a:t>Furthermore</a:t>
            </a:r>
            <a:r>
              <a:rPr b="0" lang="en-US" sz="1600" spc="-1" strike="noStrike">
                <a:solidFill>
                  <a:srgbClr val="000000"/>
                </a:solidFill>
                <a:latin typeface="Arial"/>
              </a:rPr>
              <a:t>, teachers were asked to indicate how often they go to their school computer room per week. Responses collected indicate (Syllabus 09_10.tx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97F04CC-622C-4D6F-AB73-D1FD7FE81068}" type="slidenum">
              <a:t>3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67" name="PlaceHolder 2"/>
          <p:cNvSpPr>
            <a:spLocks noGrp="1"/>
          </p:cNvSpPr>
          <p:nvPr>
            <p:ph/>
          </p:nvPr>
        </p:nvSpPr>
        <p:spPr>
          <a:xfrm>
            <a:off x="457200" y="1218960"/>
            <a:ext cx="4038480" cy="491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8" name=""/>
          <p:cNvGraphicFramePr/>
          <p:nvPr/>
        </p:nvGraphicFramePr>
        <p:xfrm>
          <a:off x="380880" y="1143000"/>
          <a:ext cx="8153640" cy="4952880"/>
        </p:xfrm>
        <a:graphic>
          <a:graphicData uri="http://schemas.openxmlformats.org/presentationml/2006/ole">
            <p:oleObj progId="Excel.Sheet.12" r:id="rId1" spid="">
              <p:embed/>
              <p:pic>
                <p:nvPicPr>
                  <p:cNvPr id="169" name="" descr=""/>
                  <p:cNvPicPr/>
                  <p:nvPr/>
                </p:nvPicPr>
                <p:blipFill>
                  <a:blip r:embed="rId2"/>
                  <a:stretch/>
                </p:blipFill>
                <p:spPr>
                  <a:xfrm>
                    <a:off x="380880" y="1143000"/>
                    <a:ext cx="8153640" cy="4952880"/>
                  </a:xfrm>
                  <a:prstGeom prst="rect">
                    <a:avLst/>
                  </a:prstGeom>
                  <a:ln w="0">
                    <a:noFill/>
                  </a:ln>
                </p:spPr>
              </p:pic>
            </p:oleObj>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34BD229B-3F4A-43B1-8E9B-592CA08C5759}" type="slidenum">
              <a:t>3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1"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me examples of participant-oriented metadiscour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Inclusive first person pronouns</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30 comes a time when even the most compliant people must rise up in righteous indignation and declare “ENOUGH IS ENOUGH”. </a:t>
            </a:r>
            <a:r>
              <a:rPr b="0" lang="en-US" sz="1600" spc="-1" strike="noStrike">
                <a:solidFill>
                  <a:srgbClr val="ff33cc"/>
                </a:solidFill>
                <a:latin typeface="Arial"/>
              </a:rPr>
              <a:t>Our</a:t>
            </a:r>
            <a:r>
              <a:rPr b="0" lang="en-US" sz="1600" spc="-1" strike="noStrike">
                <a:solidFill>
                  <a:srgbClr val="000000"/>
                </a:solidFill>
                <a:latin typeface="Arial"/>
              </a:rPr>
              <a:t> silence in the face of persistent and systematic abuse and misuse of our patrimony by others has been mistaken for weak</a:t>
            </a:r>
            <a:r>
              <a:rPr b="0" lang="en-US" sz="1600" spc="-1" strike="noStrike">
                <a:solidFill>
                  <a:srgbClr val="000000"/>
                </a:solidFill>
                <a:latin typeface="Arial"/>
              </a:rPr>
              <a:t>	</a:t>
            </a:r>
            <a:r>
              <a:rPr b="0" lang="en-US" sz="1600" spc="-1" strike="noStrike">
                <a:solidFill>
                  <a:srgbClr val="000000"/>
                </a:solidFill>
                <a:latin typeface="Arial"/>
              </a:rPr>
              <a:t>(Syllabus 09_10.tx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ractices basing its focus on the relation between domination, resistance, centre and margin. This approach helps </a:t>
            </a:r>
            <a:r>
              <a:rPr b="0" lang="en-US" sz="1600" spc="-1" strike="noStrike">
                <a:solidFill>
                  <a:srgbClr val="ff33cc"/>
                </a:solidFill>
                <a:latin typeface="Arial"/>
              </a:rPr>
              <a:t>us </a:t>
            </a:r>
            <a:r>
              <a:rPr b="0" lang="en-US" sz="1600" spc="-1" strike="noStrike">
                <a:solidFill>
                  <a:srgbClr val="000000"/>
                </a:solidFill>
                <a:latin typeface="Arial"/>
              </a:rPr>
              <a:t>to understand the colonial mind and to be able to see how education can be re-thought in the Caribbean. The paper will  (Absts 05_06.tx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s and mores into the background. It seems before long, some traditions in Africa (Cameroon) would be forgotten. </a:t>
            </a:r>
            <a:r>
              <a:rPr b="0" lang="en-US" sz="1600" spc="-1" strike="noStrike">
                <a:solidFill>
                  <a:srgbClr val="ff33cc"/>
                </a:solidFill>
                <a:latin typeface="Arial"/>
              </a:rPr>
              <a:t>We</a:t>
            </a:r>
            <a:r>
              <a:rPr b="0" lang="en-US" sz="1600" spc="-1" strike="noStrike">
                <a:solidFill>
                  <a:srgbClr val="000000"/>
                </a:solidFill>
                <a:latin typeface="Arial"/>
              </a:rPr>
              <a:t> have observed a lacuna of oral literature in contemporary Cameroonian education, just as a dearth of published works in.. (Absts 05_06.tx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24AE6CEC-8781-4392-A537-983C63AF78C6}" type="slidenum">
              <a:t>3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73"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3.2 Hedging</a:t>
            </a:r>
            <a:endParaRPr b="0" lang="en-US" sz="2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45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Hedges</a:t>
            </a:r>
            <a:r>
              <a:rPr b="0" lang="en-GB" sz="1800" spc="-1" strike="noStrike">
                <a:solidFill>
                  <a:srgbClr val="000000"/>
                </a:solidFill>
                <a:latin typeface="Arial"/>
              </a:rPr>
              <a:t>”: interactive elements that serve as a bridge between the propositional information in the text and the writer’s factual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mmunicative potential of any languag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t:</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drug will help you recover quick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dge</a:t>
            </a:r>
            <a:r>
              <a:rPr b="0" lang="en-GB" sz="1800" spc="-1" strike="noStrike">
                <a:solidFill>
                  <a:srgbClr val="000000"/>
                </a:solidFill>
                <a:latin typeface="Arial"/>
              </a:rPr>
              <a:t>: (distancing oneself from the statement)</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drug </a:t>
            </a:r>
            <a:r>
              <a:rPr b="0" i="1" lang="en-GB" sz="1800" spc="-1" strike="noStrike">
                <a:solidFill>
                  <a:srgbClr val="000000"/>
                </a:solidFill>
                <a:latin typeface="Arial"/>
              </a:rPr>
              <a:t>may</a:t>
            </a:r>
            <a:r>
              <a:rPr b="0" lang="en-GB" sz="1800" spc="-1" strike="noStrike">
                <a:solidFill>
                  <a:srgbClr val="000000"/>
                </a:solidFill>
                <a:latin typeface="Arial"/>
              </a:rPr>
              <a:t>/</a:t>
            </a:r>
            <a:r>
              <a:rPr b="0" i="1" lang="en-GB" sz="1800" spc="-1" strike="noStrike">
                <a:solidFill>
                  <a:srgbClr val="000000"/>
                </a:solidFill>
                <a:latin typeface="Arial"/>
              </a:rPr>
              <a:t>could/might</a:t>
            </a:r>
            <a:r>
              <a:rPr b="0" lang="en-GB" sz="1800" spc="-1" strike="noStrike">
                <a:solidFill>
                  <a:srgbClr val="000000"/>
                </a:solidFill>
                <a:latin typeface="Arial"/>
              </a:rPr>
              <a:t> help you recover quick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4B99A536-AFAF-4C7A-847C-FB4C018D0CB6}" type="slidenum">
              <a:t>3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 reasons for hedg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0" lang="en-GB" sz="1800" spc="-1" strike="noStrike">
                <a:solidFill>
                  <a:srgbClr val="000000"/>
                </a:solidFill>
                <a:latin typeface="Arial"/>
              </a:rPr>
              <a:t>1. </a:t>
            </a:r>
            <a:r>
              <a:rPr b="1" lang="en-GB" sz="1800" spc="-1" strike="noStrike">
                <a:solidFill>
                  <a:srgbClr val="000000"/>
                </a:solidFill>
                <a:latin typeface="Arial"/>
              </a:rPr>
              <a:t>Cover-up tactics</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hedges as scientific impreci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ne down one’s statement</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uce risk of opposition</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al distance</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ize the “threat to fa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Kabui 1988; Fand 1989; Salager-Meyer 199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FA919590-63BA-4E38-BDD4-634DDF3411AF}" type="slidenum">
              <a:t>3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1800" spc="-1" strike="noStrike">
                <a:solidFill>
                  <a:srgbClr val="000000"/>
                </a:solidFill>
                <a:latin typeface="Arial"/>
              </a:rPr>
              <a:t>2. Ways of being more precise in reporting results</a:t>
            </a:r>
            <a:r>
              <a:rPr b="0" lang="en-GB" sz="1800" spc="-1" strike="noStrike">
                <a:solidFill>
                  <a:srgbClr val="000000"/>
                </a:solidFill>
                <a:latin typeface="Arial"/>
              </a:rPr>
              <a:t> :</a:t>
            </a:r>
            <a:r>
              <a:rPr b="0" lang="en-GB" sz="3200" spc="-1" strike="noStrike">
                <a:solidFill>
                  <a:srgbClr val="000000"/>
                </a:solidFill>
                <a:latin typeface="Arial"/>
              </a:rPr>
              <a:t> </a:t>
            </a:r>
            <a:r>
              <a:rPr b="0" lang="en-GB" sz="1800" spc="-1" strike="noStrike">
                <a:solidFill>
                  <a:srgbClr val="000000"/>
                </a:solidFill>
                <a:latin typeface="Arial"/>
              </a:rPr>
              <a:t>hedges as representation of writer’s true state of knowledge</a:t>
            </a:r>
            <a:endParaRPr b="0" lang="en-US" sz="1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be used to negotiate an accurate representation of the state of knowledge under discussion</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genuine uncertaint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r purposefully chooses to remain vague</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purposeful obfuscation or real lack of confidence</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297BA3F5-035F-4820-ADE6-E183B6DBB3B2}" type="slidenum">
              <a:t>3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Positive or negative politeness startegie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 claims pending acceptance by the academic community</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eny claims presented by other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 Conventionalized writing sty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a certain degree of hedging has become conventionalized, i.e. the function of hedges is not necessarily to avoid face-threatening acts, but simply to conform to an established writing stale. A totally un-hedged style would not be considered serious by journal editors” (Bank 199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F34006F9-AA07-422C-8356-AAD211D39280}" type="slidenum">
              <a:t>3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81"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Arial"/>
            </a:endParaRPr>
          </a:p>
        </p:txBody>
      </p:sp>
      <p:pic>
        <p:nvPicPr>
          <p:cNvPr id="182" name="" descr=""/>
          <p:cNvPicPr/>
          <p:nvPr/>
        </p:nvPicPr>
        <p:blipFill>
          <a:blip r:embed="rId1"/>
          <a:stretch/>
        </p:blipFill>
        <p:spPr>
          <a:xfrm>
            <a:off x="457200" y="914400"/>
            <a:ext cx="8077320" cy="505764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8AE9C788-D5C6-4740-AFF1-F5C08FE64921}" type="slidenum">
              <a:t>3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8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5" name="" descr=""/>
          <p:cNvPicPr/>
          <p:nvPr/>
        </p:nvPicPr>
        <p:blipFill>
          <a:blip r:embed="rId1"/>
          <a:stretch/>
        </p:blipFill>
        <p:spPr>
          <a:xfrm>
            <a:off x="304920" y="990720"/>
            <a:ext cx="8381880" cy="483876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6C7280EB-4C1F-4B3B-AD97-42C39B3996E5}" type="slidenum">
              <a:t>3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87"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000" spc="-1" strike="noStrike">
              <a:solidFill>
                <a:srgbClr val="000000"/>
              </a:solidFill>
              <a:latin typeface="Arial"/>
            </a:endParaRPr>
          </a:p>
        </p:txBody>
      </p:sp>
      <p:pic>
        <p:nvPicPr>
          <p:cNvPr id="188" name="" descr=""/>
          <p:cNvPicPr/>
          <p:nvPr/>
        </p:nvPicPr>
        <p:blipFill>
          <a:blip r:embed="rId1"/>
          <a:stretch/>
        </p:blipFill>
        <p:spPr>
          <a:xfrm>
            <a:off x="457200" y="1143000"/>
            <a:ext cx="8229600" cy="497196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2F9B98EF-8F6D-4A88-A2D8-427B1460C261}" type="slidenum">
              <a:t>3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language, culture and variation</a:t>
            </a:r>
            <a:r>
              <a:rPr b="1" lang="de-DE" sz="3200" spc="-1" strike="noStrike">
                <a:solidFill>
                  <a:srgbClr val="000000"/>
                </a:solidFill>
                <a:latin typeface="Arial"/>
              </a:rPr>
              <a:t> </a:t>
            </a:r>
            <a:endParaRPr b="0" lang="en-US" sz="3200" spc="-1" strike="noStrike">
              <a:solidFill>
                <a:srgbClr val="000000"/>
              </a:solidFill>
              <a:latin typeface="Arial"/>
            </a:endParaRPr>
          </a:p>
        </p:txBody>
      </p:sp>
      <p:sp>
        <p:nvSpPr>
          <p:cNvPr id="102" name="PlaceHolder 2"/>
          <p:cNvSpPr>
            <a:spLocks noGrp="1"/>
          </p:cNvSpPr>
          <p:nvPr>
            <p:ph/>
          </p:nvPr>
        </p:nvSpPr>
        <p:spPr>
          <a:xfrm>
            <a:off x="761760" y="2057400"/>
            <a:ext cx="8381880" cy="4262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 Variation of language practices in different culture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s in the ways of speaking  prevailing in different societies and different communities are profound and systematic, and reflect the different cultural values (Wierzbicka 1990)</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astive linguistic studies have explored cross-cultural differences in thought and writing patterns (Kaplan 1966/1980; Galtung 1981; Clyne 1981, 1987; House 1997 etc.)</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C382588B-2F69-4E42-99DD-067D151183F5}" type="slidenum">
              <a:t>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9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000" spc="-1" strike="noStrike">
              <a:solidFill>
                <a:srgbClr val="000000"/>
              </a:solidFill>
              <a:latin typeface="Arial"/>
            </a:endParaRPr>
          </a:p>
        </p:txBody>
      </p:sp>
      <p:pic>
        <p:nvPicPr>
          <p:cNvPr id="191" name="" descr=""/>
          <p:cNvPicPr/>
          <p:nvPr/>
        </p:nvPicPr>
        <p:blipFill>
          <a:blip r:embed="rId1"/>
          <a:stretch/>
        </p:blipFill>
        <p:spPr>
          <a:xfrm>
            <a:off x="457200" y="990720"/>
            <a:ext cx="8229600" cy="495288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FA41C1E-3A05-49FA-9AEB-83128C4D3F52}" type="slidenum">
              <a:t>4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9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p:cNvPicPr/>
          <p:nvPr/>
        </p:nvPicPr>
        <p:blipFill>
          <a:blip r:embed="rId1"/>
          <a:stretch/>
        </p:blipFill>
        <p:spPr>
          <a:xfrm>
            <a:off x="380880" y="1066680"/>
            <a:ext cx="8229600" cy="487692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4F6C4057-99FA-46B1-B411-1720269311E5}" type="slidenum">
              <a:t>4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96" name="PlaceHolder 2"/>
          <p:cNvSpPr>
            <a:spLocks noGrp="1"/>
          </p:cNvSpPr>
          <p:nvPr>
            <p:ph/>
          </p:nvPr>
        </p:nvSpPr>
        <p:spPr>
          <a:xfrm>
            <a:off x="457200" y="990720"/>
            <a:ext cx="4038480" cy="5140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apitulating  hedging featu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 name=""/>
          <p:cNvGraphicFramePr/>
          <p:nvPr/>
        </p:nvGraphicFramePr>
        <p:xfrm>
          <a:off x="380880" y="1447920"/>
          <a:ext cx="8305920" cy="4572000"/>
        </p:xfrm>
        <a:graphic>
          <a:graphicData uri="http://schemas.openxmlformats.org/presentationml/2006/ole">
            <p:oleObj progId="Excel.Sheet.12" r:id="rId1" spid="">
              <p:embed/>
              <p:pic>
                <p:nvPicPr>
                  <p:cNvPr id="198" name="" descr=""/>
                  <p:cNvPicPr/>
                  <p:nvPr/>
                </p:nvPicPr>
                <p:blipFill>
                  <a:blip r:embed="rId2"/>
                  <a:stretch/>
                </p:blipFill>
                <p:spPr>
                  <a:xfrm>
                    <a:off x="380880" y="1447920"/>
                    <a:ext cx="8305920" cy="4572000"/>
                  </a:xfrm>
                  <a:prstGeom prst="rect">
                    <a:avLst/>
                  </a:prstGeom>
                  <a:ln w="0">
                    <a:noFill/>
                  </a:ln>
                </p:spPr>
              </p:pic>
            </p:oleObj>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DFD96C6-BEAD-4331-92E5-9514009837A9}" type="slidenum">
              <a:t>4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200" name="PlaceHolder 2"/>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ger picture of hedging from other Cameroon English texts academic (Nkemleke forthcom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3" descr=""/>
          <p:cNvPicPr/>
          <p:nvPr/>
        </p:nvPicPr>
        <p:blipFill>
          <a:blip r:embed="rId1">
            <a:lum bright="-6000"/>
          </a:blip>
          <a:stretch/>
        </p:blipFill>
        <p:spPr>
          <a:xfrm>
            <a:off x="228600" y="1600200"/>
            <a:ext cx="8610480" cy="441972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725230AC-8AD3-45EE-990A-6B8D06BF21EB}" type="slidenum">
              <a:t>4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7. Conclusion</a:t>
            </a:r>
            <a:endParaRPr b="0" lang="en-US" sz="2000" spc="-1" strike="noStrike">
              <a:solidFill>
                <a:srgbClr val="000000"/>
              </a:solidFill>
              <a:latin typeface="Arial"/>
            </a:endParaRPr>
          </a:p>
        </p:txBody>
      </p:sp>
      <p:sp>
        <p:nvSpPr>
          <p:cNvPr id="203" name="PlaceHolder 2"/>
          <p:cNvSpPr>
            <a:spLocks noGrp="1"/>
          </p:cNvSpPr>
          <p:nvPr>
            <p:ph/>
          </p:nvPr>
        </p:nvSpPr>
        <p:spPr>
          <a:xfrm>
            <a:off x="990360" y="1828800"/>
            <a:ext cx="75438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st word about academic writing in Cameroon Englis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culture”/” and/or specificity” is involv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THIS may be attributed to the role of instruc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83B4347C-C2CB-48F7-99DB-57E63A06105C}" type="slidenum">
              <a:t>4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8. </a:t>
            </a:r>
            <a:r>
              <a:rPr b="1" lang="de-DE" sz="2000" spc="-1" strike="noStrike">
                <a:solidFill>
                  <a:srgbClr val="000000"/>
                </a:solidFill>
                <a:latin typeface="Arial"/>
              </a:rPr>
              <a:t>A word about ICE-CAM (2008-?)</a:t>
            </a:r>
            <a:endParaRPr b="0" lang="en-US" sz="2000" spc="-1" strike="noStrike">
              <a:solidFill>
                <a:srgbClr val="000000"/>
              </a:solidFill>
              <a:latin typeface="Arial"/>
            </a:endParaRPr>
          </a:p>
        </p:txBody>
      </p:sp>
      <p:sp>
        <p:nvSpPr>
          <p:cNvPr id="205"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im</a:t>
            </a:r>
            <a:r>
              <a:rPr b="0" lang="en-GB" sz="1800" spc="-1" strike="noStrike">
                <a:solidFill>
                  <a:srgbClr val="000000"/>
                </a:solidFill>
                <a:latin typeface="Arial"/>
              </a:rPr>
              <a:t>:</a:t>
            </a:r>
            <a:r>
              <a:rPr b="0" lang="en-GB" sz="2000" spc="-1" strike="noStrike">
                <a:solidFill>
                  <a:srgbClr val="000000"/>
                </a:solidFill>
                <a:latin typeface="Arial"/>
              </a:rPr>
              <a:t>  </a:t>
            </a:r>
            <a:r>
              <a:rPr b="0" lang="en-GB" sz="1800" spc="-1" strike="noStrike">
                <a:solidFill>
                  <a:srgbClr val="000000"/>
                </a:solidFill>
                <a:latin typeface="Arial"/>
              </a:rPr>
              <a:t>ICE-CAM is intended to  be a Cameroonian component of the International Corpus of English Projec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of Yaounde I/TU-Chemnitz joint venture, started Feb. 2008</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ded by Alexander von Humboldt Foundation</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liminary results:</a:t>
            </a:r>
            <a:r>
              <a:rPr b="1" lang="en-GB" sz="1800" spc="-1" strike="noStrike" u="sng">
                <a:solidFill>
                  <a:srgbClr val="000000"/>
                </a:solidFill>
                <a:uFillTx/>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cc"/>
                </a:solidFill>
                <a:latin typeface="Arial"/>
              </a:rPr>
              <a:t>Written (</a:t>
            </a:r>
            <a:r>
              <a:rPr b="1" lang="en-GB" sz="1800" spc="-1" strike="noStrike">
                <a:solidFill>
                  <a:srgbClr val="ff33cc"/>
                </a:solidFill>
                <a:latin typeface="Arial"/>
              </a:rPr>
              <a:t>Goal</a:t>
            </a:r>
            <a:r>
              <a:rPr b="0" lang="en-GB" sz="1800" spc="-1" strike="noStrike">
                <a:solidFill>
                  <a:srgbClr val="ff33cc"/>
                </a:solidFill>
                <a:latin typeface="Arial"/>
              </a:rPr>
              <a:t>: 400,000 words envisaged, </a:t>
            </a:r>
            <a:r>
              <a:rPr b="1" lang="en-GB" sz="1800" spc="-1" strike="noStrike">
                <a:solidFill>
                  <a:srgbClr val="ff33cc"/>
                </a:solidFill>
                <a:latin typeface="Arial"/>
              </a:rPr>
              <a:t>collected</a:t>
            </a:r>
            <a:r>
              <a:rPr b="0" lang="en-GB" sz="1800" spc="-1" strike="noStrike">
                <a:solidFill>
                  <a:srgbClr val="ff33cc"/>
                </a:solidFill>
                <a:latin typeface="Arial"/>
              </a:rPr>
              <a:t>:  660,000 wor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cc"/>
                </a:solidFill>
                <a:latin typeface="Arial"/>
              </a:rPr>
              <a:t>Spoken (</a:t>
            </a:r>
            <a:r>
              <a:rPr b="1" lang="en-GB" sz="1800" spc="-1" strike="noStrike">
                <a:solidFill>
                  <a:srgbClr val="ff33cc"/>
                </a:solidFill>
                <a:latin typeface="Arial"/>
              </a:rPr>
              <a:t>Goal</a:t>
            </a:r>
            <a:r>
              <a:rPr b="0" lang="en-GB" sz="1800" spc="-1" strike="noStrike">
                <a:solidFill>
                  <a:srgbClr val="ff33cc"/>
                </a:solidFill>
                <a:latin typeface="Arial"/>
              </a:rPr>
              <a:t>: 100,000 words envisaged, </a:t>
            </a:r>
            <a:r>
              <a:rPr b="1" lang="en-GB" sz="1800" spc="-1" strike="noStrike">
                <a:solidFill>
                  <a:srgbClr val="ff33cc"/>
                </a:solidFill>
                <a:latin typeface="Arial"/>
              </a:rPr>
              <a:t>transcribed</a:t>
            </a:r>
            <a:r>
              <a:rPr b="0" lang="en-GB" sz="1800" spc="-1" strike="noStrike">
                <a:solidFill>
                  <a:srgbClr val="ff33cc"/>
                </a:solidFill>
                <a:latin typeface="Arial"/>
              </a:rPr>
              <a:t>: 67,000 wor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1A862BE-5602-4C0F-BA3D-9FA53B2DAC90}" type="slidenum">
              <a:t>4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osition of ICE-CAM (written)</a:t>
            </a:r>
            <a:endParaRPr b="0" lang="en-US" sz="2000" spc="-1" strike="noStrike">
              <a:solidFill>
                <a:srgbClr val="000000"/>
              </a:solidFill>
              <a:latin typeface="Arial"/>
            </a:endParaRPr>
          </a:p>
        </p:txBody>
      </p:sp>
      <p:graphicFrame>
        <p:nvGraphicFramePr>
          <p:cNvPr id="207" name=""/>
          <p:cNvGraphicFramePr/>
          <p:nvPr/>
        </p:nvGraphicFramePr>
        <p:xfrm>
          <a:off x="762120" y="1371600"/>
          <a:ext cx="7543800" cy="4091040"/>
        </p:xfrm>
        <a:graphic>
          <a:graphicData uri="http://schemas.openxmlformats.org/drawingml/2006/table">
            <a:tbl>
              <a:tblPr/>
              <a:tblGrid>
                <a:gridCol w="2666880"/>
                <a:gridCol w="914400"/>
                <a:gridCol w="2743200"/>
                <a:gridCol w="1219320"/>
              </a:tblGrid>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tudents’ Essay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kills and Hobb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6,3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Examination Scrip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5,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Editoria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28,8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ocial Lett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7,7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Nov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6,8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Business Lett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4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umanities (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8,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umanities (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3,7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ocial Sciences </a:t>
                      </a:r>
                      <a:r>
                        <a:rPr b="1" lang="en-US" sz="1400" spc="-1" strike="noStrike">
                          <a:solidFill>
                            <a:srgbClr val="000000"/>
                          </a:solidFill>
                          <a:latin typeface="Arial"/>
                          <a:ea typeface="Arial"/>
                        </a:rPr>
                        <a:t>(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5,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ocial Sciences </a:t>
                      </a:r>
                      <a:r>
                        <a:rPr b="1" lang="en-US" sz="1400" spc="-1" strike="noStrike">
                          <a:solidFill>
                            <a:srgbClr val="000000"/>
                          </a:solidFill>
                          <a:latin typeface="Arial"/>
                          <a:ea typeface="Arial"/>
                        </a:rPr>
                        <a:t>(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Natural Science </a:t>
                      </a:r>
                      <a:r>
                        <a:rPr b="1" lang="en-US" sz="1400" spc="-1" strike="noStrike">
                          <a:solidFill>
                            <a:srgbClr val="000000"/>
                          </a:solidFill>
                          <a:latin typeface="Arial"/>
                          <a:ea typeface="Arial"/>
                        </a:rPr>
                        <a:t>(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20,7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Natural Science </a:t>
                      </a:r>
                      <a:r>
                        <a:rPr b="1" lang="en-US" sz="1400" spc="-1" strike="noStrike">
                          <a:solidFill>
                            <a:srgbClr val="000000"/>
                          </a:solidFill>
                          <a:latin typeface="Arial"/>
                          <a:ea typeface="Arial"/>
                        </a:rPr>
                        <a:t>(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Technology </a:t>
                      </a:r>
                      <a:r>
                        <a:rPr b="1" lang="en-US" sz="1400" spc="-1" strike="noStrike">
                          <a:solidFill>
                            <a:srgbClr val="000000"/>
                          </a:solidFill>
                          <a:latin typeface="Arial"/>
                          <a:ea typeface="Arial"/>
                        </a:rPr>
                        <a:t>(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Technology </a:t>
                      </a:r>
                      <a:r>
                        <a:rPr b="1" lang="en-US" sz="1400" spc="-1" strike="noStrike">
                          <a:solidFill>
                            <a:srgbClr val="000000"/>
                          </a:solidFill>
                          <a:latin typeface="Arial"/>
                          <a:ea typeface="Arial"/>
                        </a:rPr>
                        <a:t>(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Press Repor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32,9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Administrative wri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857BFDBC-10C9-4838-9324-D82BDE00E74F}" type="slidenum">
              <a:t>46</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osition of ICE-CAM (spoken)</a:t>
            </a:r>
            <a:endParaRPr b="0" lang="en-US" sz="2000" spc="-1" strike="noStrike">
              <a:solidFill>
                <a:srgbClr val="000000"/>
              </a:solidFill>
              <a:latin typeface="Arial"/>
            </a:endParaRPr>
          </a:p>
        </p:txBody>
      </p:sp>
      <p:graphicFrame>
        <p:nvGraphicFramePr>
          <p:cNvPr id="209" name=""/>
          <p:cNvGraphicFramePr/>
          <p:nvPr/>
        </p:nvGraphicFramePr>
        <p:xfrm>
          <a:off x="1219320" y="1371600"/>
          <a:ext cx="5715000" cy="4589640"/>
        </p:xfrm>
        <a:graphic>
          <a:graphicData uri="http://schemas.openxmlformats.org/drawingml/2006/table">
            <a:tbl>
              <a:tblPr/>
              <a:tblGrid>
                <a:gridCol w="3124080"/>
                <a:gridCol w="2590920"/>
              </a:tblGrid>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nversations    (Private)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524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Broadcast Interviews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Legal cross Examination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lass Lessons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roadcast Discussion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mmentaries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Unscripted Speech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Demonstrations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egal presentations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roadcast News (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roadcast Talks (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Religions Sermon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6,000 words transcrib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Dissertation Defence</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1,000 Words transcrib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ADC4689A-C0A8-47C7-BB70-8B53A48655DA}" type="slidenum">
              <a:t>47</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isting corpus of Cameroon English (1992-1994)</a:t>
            </a:r>
            <a:endParaRPr b="0" lang="en-US" sz="2000" spc="-1" strike="noStrike">
              <a:solidFill>
                <a:srgbClr val="000000"/>
              </a:solidFill>
              <a:latin typeface="Arial"/>
            </a:endParaRPr>
          </a:p>
        </p:txBody>
      </p:sp>
      <p:graphicFrame>
        <p:nvGraphicFramePr>
          <p:cNvPr id="211" name=""/>
          <p:cNvGraphicFramePr/>
          <p:nvPr/>
        </p:nvGraphicFramePr>
        <p:xfrm>
          <a:off x="838080" y="1447920"/>
          <a:ext cx="5659560" cy="4410000"/>
        </p:xfrm>
        <a:graphic>
          <a:graphicData uri="http://schemas.openxmlformats.org/drawingml/2006/table">
            <a:tbl>
              <a:tblPr/>
              <a:tblGrid>
                <a:gridCol w="790560"/>
                <a:gridCol w="2562480"/>
                <a:gridCol w="1011240"/>
                <a:gridCol w="12952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N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ext catego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No. Of tex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No. Of wor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fficial Press (O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0,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tudents‘ Essays (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30,76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scellaneous (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22,56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Novels &amp; Short stories (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4,45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ivate Press (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8,3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Gov‘t Memo (G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9,70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ivate letters (P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4,3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ourism (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5,20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Religion (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0,85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J</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fficial Letters (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6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dvertisement (A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9,5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Tot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8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900,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24AF930B-0A28-4649-A24E-4E6A8143331D}" type="slidenum">
              <a:t>48</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7988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D</a:t>
            </a:r>
            <a:endParaRPr b="0" lang="en-US" sz="2000" spc="-1" strike="noStrike">
              <a:solidFill>
                <a:srgbClr val="000000"/>
              </a:solidFill>
              <a:latin typeface="Arial"/>
            </a:endParaRPr>
          </a:p>
        </p:txBody>
      </p:sp>
      <p:sp>
        <p:nvSpPr>
          <p:cNvPr id="213" name="PlaceHolder 2"/>
          <p:cNvSpPr>
            <a:spLocks noGrp="1"/>
          </p:cNvSpPr>
          <p:nvPr>
            <p:ph/>
          </p:nvPr>
        </p:nvSpPr>
        <p:spPr>
          <a:xfrm>
            <a:off x="380520" y="1066320"/>
            <a:ext cx="8458200" cy="480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ademic writing practices in Cameroon English, culture and variation</a:t>
            </a:r>
            <a:br>
              <a:rPr sz="3600"/>
            </a:b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niel A. Nkemleke</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6767ff"/>
                </a:solidFill>
                <a:uFillTx/>
                <a:latin typeface="Arial"/>
                <a:hlinkClick r:id="rId1"/>
              </a:rPr>
              <a:t>nkemlekedan@yahoo.com</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ffice: Reichenhainer 39/018</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C27369B0-E3ED-45B6-A250-0905DD918995}" type="slidenum">
              <a:t>4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Academic writing as community practice</a:t>
            </a:r>
            <a:endParaRPr b="0" lang="en-US" sz="20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1 </a:t>
            </a:r>
            <a:r>
              <a:rPr b="1" lang="en-GB" sz="2000" spc="-1" strike="noStrike">
                <a:solidFill>
                  <a:srgbClr val="000000"/>
                </a:solidFill>
                <a:latin typeface="Arial"/>
              </a:rPr>
              <a:t>Conventions, communities and styles</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ademic writing is writing done by students, researchers/scholars, or simply stated, writing practices in an academic community such as the university. Such writing should enable community practioners to acquire and understand knowledge; and manipulate such knowledge in </a:t>
            </a:r>
            <a:r>
              <a:rPr b="1" lang="en-GB" sz="1800" spc="-1" strike="noStrike">
                <a:solidFill>
                  <a:srgbClr val="000000"/>
                </a:solidFill>
                <a:latin typeface="Arial"/>
              </a:rPr>
              <a:t>appropriate styles</a:t>
            </a:r>
            <a:r>
              <a:rPr b="0" lang="en-GB" sz="1800" spc="-1" strike="noStrike">
                <a:solidFill>
                  <a:srgbClr val="000000"/>
                </a:solidFill>
                <a:latin typeface="Arial"/>
              </a:rPr>
              <a:t> and </a:t>
            </a:r>
            <a:r>
              <a:rPr b="1" lang="en-GB" sz="1800" spc="-1" strike="noStrike">
                <a:solidFill>
                  <a:srgbClr val="000000"/>
                </a:solidFill>
                <a:latin typeface="Arial"/>
              </a:rPr>
              <a:t>conventions</a:t>
            </a:r>
            <a:r>
              <a:rPr b="0" lang="en-GB" sz="1800" spc="-1" strike="noStrike">
                <a:solidFill>
                  <a:srgbClr val="000000"/>
                </a:solidFill>
                <a:latin typeface="Arial"/>
              </a:rPr>
              <a:t> in the disciplinary or </a:t>
            </a:r>
            <a:r>
              <a:rPr b="1" lang="en-GB" sz="1800" spc="-1" strike="noStrike">
                <a:solidFill>
                  <a:srgbClr val="000000"/>
                </a:solidFill>
                <a:latin typeface="Arial"/>
              </a:rPr>
              <a:t>discourse community</a:t>
            </a:r>
            <a:r>
              <a:rPr b="0" lang="en-GB" sz="1800" spc="-1" strike="noStrike">
                <a:solidFill>
                  <a:srgbClr val="000000"/>
                </a:solidFill>
                <a:latin typeface="Arial"/>
              </a:rPr>
              <a:t> (Bailey &amp; Heritage 2008; Chamot &amp; O’Malley 1994; Schleppegrell 200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ademic English has become increasing conventionalized, developing its own specific ways of </a:t>
            </a:r>
            <a:r>
              <a:rPr b="1" lang="en-GB" sz="1800" spc="-1" strike="noStrike">
                <a:solidFill>
                  <a:srgbClr val="000000"/>
                </a:solidFill>
                <a:latin typeface="Arial"/>
              </a:rPr>
              <a:t>“doing”</a:t>
            </a:r>
            <a:r>
              <a:rPr b="0" lang="en-GB" sz="1800" spc="-1" strike="noStrike">
                <a:solidFill>
                  <a:srgbClr val="000000"/>
                </a:solidFill>
                <a:latin typeface="Arial"/>
              </a:rPr>
              <a:t> and </a:t>
            </a:r>
            <a:r>
              <a:rPr b="1" lang="en-GB" sz="1800" spc="-1" strike="noStrike">
                <a:solidFill>
                  <a:srgbClr val="000000"/>
                </a:solidFill>
                <a:latin typeface="Arial"/>
              </a:rPr>
              <a:t>“saying”</a:t>
            </a:r>
            <a:r>
              <a:rPr b="0" lang="en-GB" sz="1800" spc="-1" strike="noStrike">
                <a:solidFill>
                  <a:srgbClr val="000000"/>
                </a:solidFill>
                <a:latin typeface="Arial"/>
              </a:rPr>
              <a:t> things (Bizzell 199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30E63D6B-9C0A-46E8-A467-52309875691B}" type="slidenum">
              <a:t>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ferences</a:t>
            </a:r>
            <a:endParaRPr b="0" lang="en-US" sz="2000" spc="-1" strike="noStrike">
              <a:solidFill>
                <a:srgbClr val="000000"/>
              </a:solidFill>
              <a:latin typeface="Arial"/>
            </a:endParaRPr>
          </a:p>
        </p:txBody>
      </p:sp>
      <p:sp>
        <p:nvSpPr>
          <p:cNvPr id="215"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fontScale="96000"/>
          </a:bodyPr>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nks, D. (1994). Hedges and how to trim them. In O.A.M. Brekke, T. Dahl &amp; J. Myking (eds.), </a:t>
            </a:r>
            <a:r>
              <a:rPr b="0" i="1" lang="en-GB" sz="1400" spc="-1" strike="noStrike">
                <a:solidFill>
                  <a:srgbClr val="000000"/>
                </a:solidFill>
                <a:latin typeface="Arial"/>
              </a:rPr>
              <a:t>Proceedings of the 9th European symposium of LSP Vol</a:t>
            </a:r>
            <a:r>
              <a:rPr b="0" lang="en-GB" sz="1400" spc="-1" strike="noStrike">
                <a:solidFill>
                  <a:srgbClr val="000000"/>
                </a:solidFill>
                <a:latin typeface="Arial"/>
              </a:rPr>
              <a:t>.</a:t>
            </a:r>
            <a:r>
              <a:rPr b="0" i="1" lang="en-GB" sz="1400" spc="-1" strike="noStrike">
                <a:solidFill>
                  <a:srgbClr val="000000"/>
                </a:solidFill>
                <a:latin typeface="Arial"/>
              </a:rPr>
              <a:t> II</a:t>
            </a:r>
            <a:r>
              <a:rPr b="0" lang="en-GB" sz="1400" spc="-1" strike="noStrike">
                <a:solidFill>
                  <a:srgbClr val="000000"/>
                </a:solidFill>
                <a:latin typeface="Arial"/>
              </a:rPr>
              <a:t>.</a:t>
            </a:r>
            <a:r>
              <a:rPr b="0" i="1" lang="en-GB" sz="1400" spc="-1" strike="noStrike">
                <a:solidFill>
                  <a:srgbClr val="000000"/>
                </a:solidFill>
                <a:latin typeface="Arial"/>
              </a:rPr>
              <a:t> Applications and Implications of Current LSP Research</a:t>
            </a:r>
            <a:r>
              <a:rPr b="0" lang="en-GB" sz="1400" spc="-1" strike="noStrike">
                <a:solidFill>
                  <a:srgbClr val="000000"/>
                </a:solidFill>
                <a:latin typeface="Arial"/>
              </a:rPr>
              <a:t>. University of Bergen, 589-92.</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iley, A. L. &amp; H.M. Heritage (2008). Formative assessment for literacy, grades K-6: Building reading and academic language skills across the curriculum. Thousand Oaks, CA: Corwin Press. </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ton, D. &amp; K. Tusting, (eds.) 2005) Beyond Communities of Practic: language, power and scial context, New York: Cambridge University Press.</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ommaert, J. (2005) </a:t>
            </a:r>
            <a:r>
              <a:rPr b="0" i="1" lang="en-GB" sz="1400" spc="-1" strike="noStrike">
                <a:solidFill>
                  <a:srgbClr val="000000"/>
                </a:solidFill>
                <a:latin typeface="Arial"/>
              </a:rPr>
              <a:t>Discourse: a critical introduction</a:t>
            </a:r>
            <a:r>
              <a:rPr b="0" lang="en-GB" sz="1400" spc="-1" strike="noStrike">
                <a:solidFill>
                  <a:srgbClr val="000000"/>
                </a:solidFill>
                <a:latin typeface="Arial"/>
              </a:rPr>
              <a:t>, Cambridge: Cambridge University Press.</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zzell, P. (1994). </a:t>
            </a:r>
            <a:r>
              <a:rPr b="0" i="1" lang="en-GB" sz="1400" spc="-1" strike="noStrike">
                <a:solidFill>
                  <a:srgbClr val="000000"/>
                </a:solidFill>
                <a:latin typeface="Arial"/>
              </a:rPr>
              <a:t>Academic Discourse and Critical Consciousness</a:t>
            </a:r>
            <a:r>
              <a:rPr b="0" lang="en-GB" sz="1400" spc="-1" strike="noStrike">
                <a:solidFill>
                  <a:srgbClr val="000000"/>
                </a:solidFill>
                <a:latin typeface="Arial"/>
              </a:rPr>
              <a:t>. Pittsburgh: University of Pittsburg Press.</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mot, A. U. &amp; J.M. O'Malley (1994). </a:t>
            </a:r>
            <a:r>
              <a:rPr b="0" i="1" lang="en-GB" sz="1400" spc="-1" strike="noStrike">
                <a:solidFill>
                  <a:srgbClr val="000000"/>
                </a:solidFill>
                <a:latin typeface="Arial"/>
              </a:rPr>
              <a:t>The CALLA Handbook</a:t>
            </a:r>
            <a:r>
              <a:rPr b="0" lang="en-GB" sz="1400" spc="-1" strike="noStrike">
                <a:solidFill>
                  <a:srgbClr val="000000"/>
                </a:solidFill>
                <a:latin typeface="Arial"/>
              </a:rPr>
              <a:t>:</a:t>
            </a:r>
            <a:r>
              <a:rPr b="0" i="1" lang="en-GB" sz="1400" spc="-1" strike="noStrike">
                <a:solidFill>
                  <a:srgbClr val="000000"/>
                </a:solidFill>
                <a:latin typeface="Arial"/>
              </a:rPr>
              <a:t> Implementing the Cognitive Academic Language Learning Approach</a:t>
            </a:r>
            <a:r>
              <a:rPr b="0" lang="en-GB" sz="1400" spc="-1" strike="noStrike">
                <a:solidFill>
                  <a:srgbClr val="000000"/>
                </a:solidFill>
                <a:latin typeface="Arial"/>
              </a:rPr>
              <a:t>. Reading, MA: Addison-Wesley. </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yne, M. (1981) Culture and discourse structure, </a:t>
            </a:r>
            <a:r>
              <a:rPr b="0" i="1" lang="en-GB" sz="1400" spc="-1" strike="noStrike">
                <a:solidFill>
                  <a:srgbClr val="000000"/>
                </a:solidFill>
                <a:latin typeface="Arial"/>
              </a:rPr>
              <a:t>Journal of Pragmatics</a:t>
            </a:r>
            <a:r>
              <a:rPr b="0" lang="en-GB" sz="1400" spc="-1" strike="noStrike">
                <a:solidFill>
                  <a:srgbClr val="000000"/>
                </a:solidFill>
                <a:latin typeface="Arial"/>
              </a:rPr>
              <a:t> 5, 61-66.</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yne, M (1987) Cultural differences in the organization of academic text. English and German, </a:t>
            </a:r>
            <a:r>
              <a:rPr b="0" i="1" lang="en-GB" sz="1400" spc="-1" strike="noStrike">
                <a:solidFill>
                  <a:srgbClr val="000000"/>
                </a:solidFill>
                <a:latin typeface="Arial"/>
              </a:rPr>
              <a:t>Journal of Pragmatics</a:t>
            </a:r>
            <a:r>
              <a:rPr b="0" lang="en-GB" sz="1400" spc="-1" strike="noStrike">
                <a:solidFill>
                  <a:srgbClr val="000000"/>
                </a:solidFill>
                <a:latin typeface="Arial"/>
              </a:rPr>
              <a:t> 11, 211-247.</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urnon, F. (1994) Dictionnaire des mots et formules célèbres, Paris, Le Robert.</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nd, R.J. (1989). Detecting bias in newspapers: implications for teaching ESL. </a:t>
            </a:r>
            <a:r>
              <a:rPr b="0" i="1" lang="en-GB" sz="1400" spc="-1" strike="noStrike">
                <a:solidFill>
                  <a:srgbClr val="000000"/>
                </a:solidFill>
                <a:latin typeface="Arial"/>
              </a:rPr>
              <a:t>Reading in a Foreign Language</a:t>
            </a:r>
            <a:r>
              <a:rPr b="0" lang="en-GB" sz="1400" spc="-1" strike="noStrike">
                <a:solidFill>
                  <a:srgbClr val="000000"/>
                </a:solidFill>
                <a:latin typeface="Arial"/>
              </a:rPr>
              <a:t>, 6(1): 315-321.</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ltung, J. (1981) Structure, Culture and Intellectual Style. </a:t>
            </a:r>
            <a:r>
              <a:rPr b="0" i="1" lang="en-GB" sz="1400" spc="-1" strike="noStrike">
                <a:solidFill>
                  <a:srgbClr val="000000"/>
                </a:solidFill>
                <a:latin typeface="Arial"/>
              </a:rPr>
              <a:t>Social Science Formation 20</a:t>
            </a:r>
            <a:r>
              <a:rPr b="0" lang="en-GB" sz="1400" spc="-1" strike="noStrike">
                <a:solidFill>
                  <a:srgbClr val="000000"/>
                </a:solidFill>
                <a:latin typeface="Arial"/>
              </a:rPr>
              <a:t>, 817-856.</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use, J. (1997). </a:t>
            </a:r>
            <a:r>
              <a:rPr b="0" i="1" lang="en-GB" sz="1400" spc="-1" strike="noStrike">
                <a:solidFill>
                  <a:srgbClr val="000000"/>
                </a:solidFill>
                <a:latin typeface="Arial"/>
              </a:rPr>
              <a:t>Translation Quality Assessment: A Model revisited</a:t>
            </a:r>
            <a:r>
              <a:rPr b="0" lang="en-GB" sz="1400" spc="-1" strike="noStrike">
                <a:solidFill>
                  <a:srgbClr val="000000"/>
                </a:solidFill>
                <a:latin typeface="Arial"/>
              </a:rPr>
              <a:t>. Tübingen, Narr.</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yland, K. (2009). </a:t>
            </a:r>
            <a:r>
              <a:rPr b="0" i="1" lang="en-GB" sz="1400" spc="-1" strike="noStrike">
                <a:solidFill>
                  <a:srgbClr val="000000"/>
                </a:solidFill>
                <a:latin typeface="Arial"/>
              </a:rPr>
              <a:t>Academic Discourse</a:t>
            </a:r>
            <a:r>
              <a:rPr b="0" lang="en-GB" sz="1400" spc="-1" strike="noStrike">
                <a:solidFill>
                  <a:srgbClr val="000000"/>
                </a:solidFill>
                <a:latin typeface="Arial"/>
              </a:rPr>
              <a:t>:</a:t>
            </a:r>
            <a:r>
              <a:rPr b="0" i="1" lang="en-GB" sz="1400" spc="-1" strike="noStrike">
                <a:solidFill>
                  <a:srgbClr val="000000"/>
                </a:solidFill>
                <a:latin typeface="Arial"/>
              </a:rPr>
              <a:t> English in a Global Context</a:t>
            </a:r>
            <a:r>
              <a:rPr b="0" lang="en-GB" sz="1400" spc="-1" strike="noStrike">
                <a:solidFill>
                  <a:srgbClr val="000000"/>
                </a:solidFill>
                <a:latin typeface="Arial"/>
              </a:rPr>
              <a:t>.</a:t>
            </a:r>
            <a:r>
              <a:rPr b="0" i="1" lang="en-GB" sz="1400" spc="-1" strike="noStrike">
                <a:solidFill>
                  <a:srgbClr val="000000"/>
                </a:solidFill>
                <a:latin typeface="Arial"/>
              </a:rPr>
              <a:t> </a:t>
            </a:r>
            <a:r>
              <a:rPr b="0" lang="en-GB" sz="1400" spc="-1" strike="noStrike">
                <a:solidFill>
                  <a:srgbClr val="000000"/>
                </a:solidFill>
                <a:latin typeface="Arial"/>
              </a:rPr>
              <a:t>Continuum London/New York: International Publishing Group.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69D9BF6-0591-4EAE-BA0E-548892BA9423}" type="slidenum">
              <a:t>5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vanic, R. (1998). Writing and Identity: The Discoursal Construction of Identity in Academic Writing. Amsterdam: John Benjamin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chru, Y. (1983). Cross cultural texts, discourse strategies and discourse interpretation. Paper presented at the conference on English as an International Language: Discourse pattern Across Cultures. Honolulu: East-West Centre. June 1–7. (Manuscript).</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plan, B (1966/1980) Cultural Thought Patterns in Intercultural Education, C. Kenneth (ed.) (1980) Readings on English as a Second Language. Cambridge: Winthrop, 399-418.</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bui, A. (1988). </a:t>
            </a:r>
            <a:r>
              <a:rPr b="0" i="1" lang="en-GB" sz="1400" spc="-1" strike="noStrike">
                <a:solidFill>
                  <a:srgbClr val="000000"/>
                </a:solidFill>
                <a:latin typeface="Arial"/>
              </a:rPr>
              <a:t>Aspects of Hedging in the Discussion of Medical Research Discourse</a:t>
            </a:r>
            <a:r>
              <a:rPr b="0" lang="en-GB" sz="1400" spc="-1" strike="noStrike">
                <a:solidFill>
                  <a:srgbClr val="000000"/>
                </a:solidFill>
                <a:latin typeface="Arial"/>
              </a:rPr>
              <a:t>. LSU ESP Collection. MSc. in TESP Dissertation. University of Aston in Birmingham.</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koff, G. (1972). Hedges: a study in meaning criteria and the logic of</a:t>
            </a:r>
            <a:r>
              <a:rPr b="0" i="1" lang="en-GB" sz="1400" spc="-1" strike="noStrike">
                <a:solidFill>
                  <a:srgbClr val="000000"/>
                </a:solidFill>
                <a:latin typeface="Arial"/>
              </a:rPr>
              <a:t> </a:t>
            </a:r>
            <a:r>
              <a:rPr b="0" lang="en-GB" sz="1400" spc="-1" strike="noStrike">
                <a:solidFill>
                  <a:srgbClr val="000000"/>
                </a:solidFill>
                <a:latin typeface="Arial"/>
              </a:rPr>
              <a:t>fuzzy concepts. </a:t>
            </a:r>
            <a:r>
              <a:rPr b="0" i="1" lang="en-GB" sz="1400" spc="-1" strike="noStrike">
                <a:solidFill>
                  <a:srgbClr val="000000"/>
                </a:solidFill>
                <a:latin typeface="Arial"/>
              </a:rPr>
              <a:t>Chicago Linguistic Society Papers</a:t>
            </a:r>
            <a:r>
              <a:rPr b="0" lang="en-GB" sz="1400" spc="-1" strike="noStrike">
                <a:solidFill>
                  <a:srgbClr val="000000"/>
                </a:solidFill>
                <a:latin typeface="Arial"/>
              </a:rPr>
              <a:t>, </a:t>
            </a:r>
            <a:r>
              <a:rPr b="0" i="1" lang="en-GB" sz="1400" spc="-1" strike="noStrike">
                <a:solidFill>
                  <a:srgbClr val="000000"/>
                </a:solidFill>
                <a:latin typeface="Arial"/>
              </a:rPr>
              <a:t>8</a:t>
            </a:r>
            <a:r>
              <a:rPr b="0" lang="en-GB" sz="1400" spc="-1" strike="noStrike">
                <a:solidFill>
                  <a:srgbClr val="000000"/>
                </a:solidFill>
                <a:latin typeface="Arial"/>
              </a:rPr>
              <a:t>, 183-228.</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uranen, A. (1993a). </a:t>
            </a:r>
            <a:r>
              <a:rPr b="0" i="1" lang="en-GB" sz="1400" spc="-1" strike="noStrike">
                <a:solidFill>
                  <a:srgbClr val="000000"/>
                </a:solidFill>
                <a:latin typeface="Arial"/>
              </a:rPr>
              <a:t>Cultural Differences in Academic Rhetoric: A Textlinguistic Study</a:t>
            </a:r>
            <a:r>
              <a:rPr b="0" lang="en-GB" sz="1400" spc="-1" strike="noStrike">
                <a:solidFill>
                  <a:srgbClr val="000000"/>
                </a:solidFill>
                <a:latin typeface="Arial"/>
              </a:rPr>
              <a:t>. Frankfurt: Peter Lang.</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uranen, A. (1993b). Contrastive ESP rhetoric: metatext in Finnish-English economics texts. </a:t>
            </a:r>
            <a:r>
              <a:rPr b="0" i="1" lang="en-GB" sz="1400" spc="-1" strike="noStrike">
                <a:solidFill>
                  <a:srgbClr val="000000"/>
                </a:solidFill>
                <a:latin typeface="Arial"/>
              </a:rPr>
              <a:t>English for Specific Purposes</a:t>
            </a:r>
            <a:r>
              <a:rPr b="0" lang="en-GB" sz="1400" spc="-1" strike="noStrike">
                <a:solidFill>
                  <a:srgbClr val="000000"/>
                </a:solidFill>
                <a:latin typeface="Arial"/>
              </a:rPr>
              <a:t> 12: 3-2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kemleke, Daniel (2004) Job applications and students’ complaint letters in Cameroon, </a:t>
            </a:r>
            <a:r>
              <a:rPr b="0" i="1" lang="en-GB" sz="1400" spc="-1" strike="noStrike">
                <a:solidFill>
                  <a:srgbClr val="000000"/>
                </a:solidFill>
                <a:latin typeface="Arial"/>
              </a:rPr>
              <a:t>World Englishes</a:t>
            </a:r>
            <a:r>
              <a:rPr b="0" lang="en-GB" sz="1400" spc="-1" strike="noStrike">
                <a:solidFill>
                  <a:srgbClr val="000000"/>
                </a:solidFill>
                <a:latin typeface="Arial"/>
              </a:rPr>
              <a:t>, vol. 23 (4), 600-611.</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kemleke, D. (2006). Nativization of dissertation acknowledgements and private letters in Cameroon. </a:t>
            </a:r>
            <a:r>
              <a:rPr b="0" i="1" lang="en-GB" sz="1400" spc="-1" strike="noStrike">
                <a:solidFill>
                  <a:srgbClr val="000000"/>
                </a:solidFill>
                <a:latin typeface="Arial"/>
              </a:rPr>
              <a:t>Nordic Journal of African Studies</a:t>
            </a:r>
            <a:r>
              <a:rPr b="0" lang="en-GB" sz="1400" spc="-1" strike="noStrike">
                <a:solidFill>
                  <a:srgbClr val="000000"/>
                </a:solidFill>
                <a:latin typeface="Arial"/>
              </a:rPr>
              <a:t>, vol. 15(2), 166-184.</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hasarathy, R. (1983). Tradition and creativity: Stylistic innovation in Raja Rao. Paper presented at the conference on English as an International Language: Discourse Patterns across Cultures. Honolulu: East-West Centre. June 1–7. </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A562CBA1-5C50-460A-9FBB-EB66EA26EE2E}" type="slidenum">
              <a:t>51</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or, P. (1998) Writing Disciplinarity: a sociohistoric account of literate activity in the academy, Mahwah, NJ: Lawrence Erlbaum.</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or, P. (2003) Are communities of practice really an alternative to discourse communities? Paper presented at the meeting of the American Association of Applied Linguistics, Arlington, V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inn, N. &amp; D: Holland (1987). Culture and cognition. In: D: Holland &amp; N. Quinn (eds.), </a:t>
            </a:r>
            <a:r>
              <a:rPr b="0" i="1" lang="en-GB" sz="1400" spc="-1" strike="noStrike">
                <a:solidFill>
                  <a:srgbClr val="000000"/>
                </a:solidFill>
                <a:latin typeface="Arial"/>
              </a:rPr>
              <a:t>Cultural models in language and thought</a:t>
            </a:r>
            <a:r>
              <a:rPr b="0" lang="en-GB" sz="1400" spc="-1" strike="noStrike">
                <a:solidFill>
                  <a:srgbClr val="000000"/>
                </a:solidFill>
                <a:latin typeface="Arial"/>
              </a:rPr>
              <a:t>. Cambridge:  Cambridge University Press, 3-40.</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hman, M. (2004). Aiding the reader: the use of metalinguistic devices in scientific discourse. </a:t>
            </a:r>
            <a:r>
              <a:rPr b="0" i="1" lang="en-GB" sz="1400" spc="-1" strike="noStrike">
                <a:solidFill>
                  <a:srgbClr val="000000"/>
                </a:solidFill>
                <a:latin typeface="Arial"/>
              </a:rPr>
              <a:t>Nottingham Linguistic Circular</a:t>
            </a:r>
            <a:r>
              <a:rPr b="0" lang="en-GB" sz="1400" spc="-1" strike="noStrike">
                <a:solidFill>
                  <a:srgbClr val="000000"/>
                </a:solidFill>
                <a:latin typeface="Arial"/>
              </a:rPr>
              <a:t>, 18, 30-48.</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lager-Meyer, F. (1994). Hedges and textual communicative function in medical English written discourse. </a:t>
            </a:r>
            <a:r>
              <a:rPr b="0" i="1" lang="en-GB" sz="1400" spc="-1" strike="noStrike">
                <a:solidFill>
                  <a:srgbClr val="000000"/>
                </a:solidFill>
                <a:latin typeface="Arial"/>
              </a:rPr>
              <a:t>English for Specific Purposes</a:t>
            </a:r>
            <a:r>
              <a:rPr b="0" lang="en-GB" sz="1400" spc="-1" strike="noStrike">
                <a:solidFill>
                  <a:srgbClr val="000000"/>
                </a:solidFill>
                <a:latin typeface="Arial"/>
              </a:rPr>
              <a:t> 13:149-170.</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leppegrell, M. J. (2004). </a:t>
            </a:r>
            <a:r>
              <a:rPr b="0" i="1" lang="en-GB" sz="1400" spc="-1" strike="noStrike">
                <a:solidFill>
                  <a:srgbClr val="000000"/>
                </a:solidFill>
                <a:latin typeface="Arial"/>
              </a:rPr>
              <a:t>The Language of Schooling</a:t>
            </a:r>
            <a:r>
              <a:rPr b="0" lang="en-GB" sz="1400" spc="-1" strike="noStrike">
                <a:solidFill>
                  <a:srgbClr val="000000"/>
                </a:solidFill>
                <a:latin typeface="Arial"/>
              </a:rPr>
              <a:t>. Mahwah, NJ: Lawrence Erlbaum Associate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mied, J. (2011). Academic writing in Europe: a survey of approaches and problems. In J. Schmied (ed.), </a:t>
            </a:r>
            <a:r>
              <a:rPr b="0" i="1" lang="en-GB" sz="1400" spc="-1" strike="noStrike">
                <a:solidFill>
                  <a:srgbClr val="000000"/>
                </a:solidFill>
                <a:latin typeface="Arial"/>
              </a:rPr>
              <a:t>Academic Writing in Europe</a:t>
            </a:r>
            <a:r>
              <a:rPr b="0" lang="en-GB" sz="1400" spc="-1" strike="noStrike">
                <a:solidFill>
                  <a:srgbClr val="000000"/>
                </a:solidFill>
                <a:latin typeface="Arial"/>
              </a:rPr>
              <a:t>:</a:t>
            </a:r>
            <a:r>
              <a:rPr b="0" i="1" lang="en-GB" sz="1400" spc="-1" strike="noStrike">
                <a:solidFill>
                  <a:srgbClr val="000000"/>
                </a:solidFill>
                <a:latin typeface="Arial"/>
              </a:rPr>
              <a:t> Empirical Perspectives</a:t>
            </a:r>
            <a:r>
              <a:rPr b="0" lang="en-GB" sz="1400" spc="-1" strike="noStrike">
                <a:solidFill>
                  <a:srgbClr val="000000"/>
                </a:solidFill>
                <a:latin typeface="Arial"/>
              </a:rPr>
              <a:t>. Göttingen: Cuvillier, 1-2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iwo, O. (1976). </a:t>
            </a:r>
            <a:r>
              <a:rPr b="0" i="1" lang="en-GB" sz="1400" spc="-1" strike="noStrike">
                <a:solidFill>
                  <a:srgbClr val="000000"/>
                </a:solidFill>
                <a:latin typeface="Arial"/>
              </a:rPr>
              <a:t>Culture and the Nigerian Novel</a:t>
            </a:r>
            <a:r>
              <a:rPr b="0" lang="en-GB" sz="1400" spc="-1" strike="noStrike">
                <a:solidFill>
                  <a:srgbClr val="000000"/>
                </a:solidFill>
                <a:latin typeface="Arial"/>
              </a:rPr>
              <a:t>. New York: St. Martin’s Pres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nde Kopple, W. (1985). Some exploratory discourse on metadiscourse. </a:t>
            </a:r>
            <a:r>
              <a:rPr b="0" i="1" lang="en-GB" sz="1400" spc="-1" strike="noStrike">
                <a:solidFill>
                  <a:srgbClr val="000000"/>
                </a:solidFill>
                <a:latin typeface="Arial"/>
              </a:rPr>
              <a:t>College Composition and Communication</a:t>
            </a:r>
            <a:r>
              <a:rPr b="0" lang="en-GB" sz="1400" spc="-1" strike="noStrike">
                <a:solidFill>
                  <a:srgbClr val="000000"/>
                </a:solidFill>
                <a:latin typeface="Arial"/>
              </a:rPr>
              <a:t>, 36, 82-93.</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erzbicka, A. (1990). The meaning of colour terms: semantic, culture and cognition. </a:t>
            </a:r>
            <a:r>
              <a:rPr b="0" i="1" lang="en-GB" sz="1400" spc="-1" strike="noStrike">
                <a:solidFill>
                  <a:srgbClr val="000000"/>
                </a:solidFill>
                <a:latin typeface="Arial"/>
              </a:rPr>
              <a:t>Cognitive</a:t>
            </a:r>
            <a:r>
              <a:rPr b="0" lang="en-GB" sz="1400" spc="-1" strike="noStrike">
                <a:solidFill>
                  <a:srgbClr val="000000"/>
                </a:solidFill>
                <a:latin typeface="Arial"/>
              </a:rPr>
              <a:t> </a:t>
            </a:r>
            <a:r>
              <a:rPr b="0" i="1" lang="en-GB" sz="1400" spc="-1" strike="noStrike">
                <a:solidFill>
                  <a:srgbClr val="000000"/>
                </a:solidFill>
                <a:latin typeface="Arial"/>
              </a:rPr>
              <a:t>Linguistics</a:t>
            </a:r>
            <a:r>
              <a:rPr b="0" lang="en-GB" sz="1400" spc="-1" strike="noStrike">
                <a:solidFill>
                  <a:srgbClr val="000000"/>
                </a:solidFill>
                <a:latin typeface="Arial"/>
              </a:rPr>
              <a:t> 1: 99-150. </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63CA4A35-4089-48A9-B036-FD78C5D6DED6}" type="slidenum">
              <a:t>52</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ademic writing as community practice</a:t>
            </a:r>
            <a:endParaRPr b="0" lang="en-US" sz="2000" spc="-1" strike="noStrike">
              <a:solidFill>
                <a:srgbClr val="000000"/>
              </a:solidFill>
              <a:latin typeface="Arial"/>
            </a:endParaRPr>
          </a:p>
        </p:txBody>
      </p:sp>
      <p:sp>
        <p:nvSpPr>
          <p:cNvPr id="106" name="PlaceHolder 2"/>
          <p:cNvSpPr>
            <a:spLocks noGrp="1"/>
          </p:cNvSpPr>
          <p:nvPr>
            <p:ph/>
          </p:nvPr>
        </p:nvSpPr>
        <p:spPr>
          <a:xfrm>
            <a:off x="487080" y="1599840"/>
            <a:ext cx="819468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 </a:t>
            </a:r>
            <a:r>
              <a:rPr b="1" lang="en-GB" sz="2000" spc="-1" strike="noStrike">
                <a:solidFill>
                  <a:srgbClr val="000000"/>
                </a:solidFill>
                <a:latin typeface="Arial"/>
              </a:rPr>
              <a:t>Critique of a horizontal relationship</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rm “community”, “conventions” and “styles” often placed alongside prominent qualifiers of  ‘discourse’ and ‘practices’ implies homogeneity and idealization that downplays asymmetrical relationships (cf. Barton &amp; Tusting 2005; Ivanič 1998; Prior 1998, 2003)</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Community” is a horizontal metaphor which dominates the sociolinguistic study of language, and there is the need to include a vertical dimension to the notion of community (cf. Blommaert 20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291F09A5-97F6-48A1-B6B1-9A32D4321546}" type="slidenum">
              <a:t>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607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Academic culture</a:t>
            </a:r>
            <a:r>
              <a:rPr b="0" lang="de-DE"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487080" y="1676160"/>
            <a:ext cx="819468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1 Two views of culture</a:t>
            </a:r>
            <a:endParaRPr b="0" lang="en-US" sz="2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pen” view</a:t>
            </a:r>
            <a:r>
              <a:rPr b="0" lang="en-GB" sz="1800" spc="-1" strike="noStrike">
                <a:solidFill>
                  <a:srgbClr val="000000"/>
                </a:solidFill>
                <a:latin typeface="Arial"/>
              </a:rPr>
              <a:t> of culture is often identified with the behaviour, the rituals or ceremonies, the songs, dances, narratives and other cultural artefacts of individual societies. This is what is implied in phrases like: (1) African cultural evening, (2) Japanese culture, (3) Turkish culture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cognitive view</a:t>
            </a:r>
            <a:r>
              <a:rPr b="0" lang="en-GB" sz="1800" spc="-1" strike="noStrike">
                <a:solidFill>
                  <a:srgbClr val="000000"/>
                </a:solidFill>
                <a:latin typeface="Arial"/>
              </a:rPr>
              <a:t> such as the one expressed in Holland &amp; Quinn (1987) sees culture as “shared presuppositions about the world”. This view defines culture as knowledge, acquired through membership of a particular commun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9F54332D-7925-44A1-ADBB-A1B3AFE53B74}" type="slidenum">
              <a:t>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609480"/>
            <a:ext cx="7683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ademic culture</a:t>
            </a:r>
            <a:endParaRPr b="0" lang="en-US" sz="2000" spc="-1" strike="noStrike">
              <a:solidFill>
                <a:srgbClr val="000000"/>
              </a:solidFill>
              <a:latin typeface="Arial"/>
            </a:endParaRPr>
          </a:p>
        </p:txBody>
      </p:sp>
      <p:sp>
        <p:nvSpPr>
          <p:cNvPr id="110" name="PlaceHolder 2"/>
          <p:cNvSpPr>
            <a:spLocks noGrp="1"/>
          </p:cNvSpPr>
          <p:nvPr>
            <p:ph/>
          </p:nvPr>
        </p:nvSpPr>
        <p:spPr>
          <a:xfrm>
            <a:off x="456840" y="1600200"/>
            <a:ext cx="81946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2 </a:t>
            </a:r>
            <a:r>
              <a:rPr b="1" lang="en-GB" sz="2000" spc="-1" strike="noStrike">
                <a:solidFill>
                  <a:srgbClr val="000000"/>
                </a:solidFill>
                <a:latin typeface="Arial"/>
              </a:rPr>
              <a:t>Are there academic ways of “doing”?</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ology of science</a:t>
            </a:r>
            <a:r>
              <a:rPr b="0" lang="en-GB" sz="1800" spc="-1" strike="noStrike">
                <a:solidFill>
                  <a:srgbClr val="000000"/>
                </a:solidFill>
                <a:latin typeface="Arial"/>
              </a:rPr>
              <a:t>: academic discourse is both socially situated and structured as to accomplish rhetorical objectiv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ademic </a:t>
            </a:r>
            <a:r>
              <a:rPr b="0" lang="en-GB" sz="1800" spc="-1" strike="noStrike">
                <a:solidFill>
                  <a:srgbClr val="000000"/>
                </a:solidFill>
                <a:latin typeface="Arial"/>
              </a:rPr>
              <a:t>writing is a set of rules, regulations, practices, and attitudes on how texts should be written and presented b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embers who participate in that discourse commun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se objectives can be achieved through certain linguistic devices, then use of those devices constitute ways of writ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23AC6002-6F27-4FA5-A7A0-0D4CB39D27ED}" type="slidenum">
              <a:t>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Theoretical Premise</a:t>
            </a:r>
            <a:endParaRPr b="0" lang="en-US" sz="2000" spc="-1" strike="noStrike">
              <a:solidFill>
                <a:srgbClr val="000000"/>
              </a:solidFill>
              <a:latin typeface="Arial"/>
            </a:endParaRPr>
          </a:p>
        </p:txBody>
      </p:sp>
      <p:sp>
        <p:nvSpPr>
          <p:cNvPr id="112" name="PlaceHolder 2"/>
          <p:cNvSpPr>
            <a:spLocks noGrp="1"/>
          </p:cNvSpPr>
          <p:nvPr>
            <p:ph/>
          </p:nvPr>
        </p:nvSpPr>
        <p:spPr>
          <a:xfrm>
            <a:off x="838080" y="1523880"/>
            <a:ext cx="7958160" cy="457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4.1 </a:t>
            </a:r>
            <a:r>
              <a:rPr b="1" lang="en-GB" sz="1800" spc="-1" strike="noStrike">
                <a:solidFill>
                  <a:srgbClr val="000000"/>
                </a:solidFill>
                <a:latin typeface="Arial"/>
              </a:rPr>
              <a:t>Galtung’s (1981) metaphors in intellectual style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Saxon’: USA/UK</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eutonic’: Germany</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Gallic’: France</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Nipponic’:Jap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ltung correlates these styles of sociological thought and writing in terms of criteria such academic ability to (1) analyze paradigms, (2) generate hypotheses (or ‘propositions’), (3) form theories, (4) describe parameters and comment on the work of oth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037A5F74-E627-4111-92C3-BD51BE3B1D18}" type="slidenum">
              <a:t>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8:47:47Z</dcterms:created>
  <dc:creator>Ellen</dc:creator>
  <dc:description/>
  <dc:language>en-US</dc:language>
  <cp:lastModifiedBy>ellGuest</cp:lastModifiedBy>
  <dcterms:modified xsi:type="dcterms:W3CDTF">2011-07-01T10:01:02Z</dcterms:modified>
  <cp:revision>598</cp:revision>
  <dc:subject/>
  <dc:title>Corpus Linguistics</dc:title>
</cp:coreProperties>
</file>